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C0F29-1777-49DA-9F06-E0406AD3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D45C0-E522-456D-A4D8-E0600C1B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96664-2247-40CC-8381-9ABA4CE9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F47D5-A904-44E9-9A27-1898E1A8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A76F5-5815-433B-A394-93531362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620F5-4E6F-4AFF-839D-47A5323A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FA75E-D152-41A7-9869-2590350F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8E2B5-ED9B-491F-A963-49FF445D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4471D-07C3-47FB-8EAF-40C20D32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03141-7254-49D5-A123-12C8C815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8436B-AF93-43A4-A85F-FC10FA85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857D5-74DB-41AC-B37F-3E512B06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40967-6070-4B90-91A9-C2E0EBA8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6E688-05E1-4348-8762-EE8DFBD8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A35CA-EC20-4CEB-931C-563AD132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31E94-3463-4479-AA6E-9BD155EB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947F3-0875-42B6-8DAE-6834456C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F1904-3470-4186-A516-EBA6DAC9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B08D9-A45B-4381-A93F-3895BA11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5B50B-F34B-4960-AB80-FB69CED4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9A982-E953-4174-A941-CFA8EFB8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76AAA-BE9C-4D66-8D1E-5C757D14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22CAB-DC05-4C73-9479-0FE75B1F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5431D-4988-4123-88DB-7D56A9DC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ADD39-EEB1-4901-A39A-5A4CFB41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BB3F3-56D4-4336-8812-9A04E7B0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DA620-FECE-4FC0-BB7F-10CF45EB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F6A52-76D7-48DB-8144-3442C4C9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A2D40-A213-414D-A5E8-96F27D6D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8739D-CAA5-495B-B48B-B1C145CB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99EB-E5A2-4C75-B174-6D466B7F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69C4D-6CD9-4AF9-B777-DD08D2B6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C404B-302D-4E6C-9CEA-76073640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BC352-4118-4579-AEC4-8010161A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DC37D-8AFC-4D9E-AA19-15CF7ACE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C2D14-B0CA-41A9-BB0F-B1E3557F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3165D-9A04-4840-9941-8BEBF6B4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184C4-4BEE-4C14-A2EB-A2B275AD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988AD-C304-4496-A30B-EFEC237A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F9E2D-9743-4C57-86BE-0F813F98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0D045-81E2-4993-B542-5844CAF3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9B9-17CB-47FB-8C57-2C9E7582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5C412-8AD7-4F7F-8407-EE72CBB7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F6438-0D7E-41BB-8959-54A645D6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C353C-BFB2-403D-A1A6-0D69371A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C1B26-A021-40A9-99F9-F4A2984A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6C591-6CC2-4997-A9CA-A7360B41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D99A1-672A-451E-9C43-E36D1DC9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369F2-5234-40FC-B36A-55BD8CB3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35262-A16C-4991-A75B-4A5DB7CC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565E4-2AAB-448B-BEDF-DC766668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3CFBC-E0A9-4038-9A57-3F4F5B5E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D62-4B92-4A2E-B888-A2A336D6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3F838-D162-4D9C-8987-93D9EA35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CA357-F2EC-4B5C-8AB4-17147179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AC95E-7B92-4EC5-B5F9-469CB52C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169E4-26E4-445D-884C-AE008455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C7CD6-2C6E-49FC-956A-24DA2F39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C24A1-505B-41A7-A306-1E9ACF11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26EA5-27B0-48C3-AE6B-95D5A642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25D-E364-4A26-9EB4-5207A3FD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C06-2BCA-4FA6-91D5-24EA487C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9371-0CCF-4C0B-B72F-C6F7A070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491-FD6C-46C4-99F6-A134C02C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41C-A872-42A9-AE57-B91DE97B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B4CF-6E8E-4288-8FFF-DBB809B0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126-1210-4E70-8AD5-D641254A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FB3-0776-4D87-AB22-98DD62F4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3F5-4D14-479C-B225-AB15B327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DD0C-C6C7-40B1-A1ED-3005733D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4322-37CF-489B-AD5F-943C494E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A74C-EE25-40A0-B504-4C3C8AFA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2587-629D-43B0-8286-70D0DF28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818B-6069-4A95-9083-44756CA2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9D77-20D5-422F-BC7C-0124F435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1B27-707B-491B-AAAB-CFC626C6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E1E0-838D-436F-A4E2-F011964A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143E-5C35-47A5-B3AD-707C402D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9160-64AA-40BC-9763-A68C77BF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C14B-E5D6-4958-8B66-D5873E2C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2793-CC84-4ADF-9237-B90B0468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2C30E-A655-4B6A-8669-DD2BB531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3A427-EE03-4800-9585-59AC98EF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DDCA6-85C7-4F45-9136-99C5B330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718C8-A744-49F2-951D-7980B9B9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234C8-11BE-4BDA-BC75-D7D74E7B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740A3-4B7B-463F-B045-4E0B6D2E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C78D8-B944-414A-A149-45BB6C1B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8989F-7D85-4C14-9048-1D376FCC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EA2BD-CE6E-4D78-94DB-4A9543CC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3C816-24D0-4555-9EB4-E44CF9C5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530F2-D6FB-49EE-B45B-8A20496E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DAC59-EFC0-4002-908E-AABBC206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324BE-6034-4411-8123-F7B45C47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9ECF5-C14A-4B88-A30A-A75C5D49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713B6-114B-4DF4-9BF4-CE30619B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5BC08-EB3F-4517-B596-2FD26F7B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D39DE-B957-4969-B567-2EEDD53F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3CA11-A843-44C9-A24D-3B113F73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6418D-1F21-47F8-93A6-F0BBAEDC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E0575-62F4-429A-B5A3-F7DA9C51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A054F-7757-4B7E-A596-B7826F58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12BA4-D6B8-4B55-9061-7A223D0E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E9B8E-1E5A-450D-90CF-C801805D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739D2-22F0-41B6-A7EB-FBD68E87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8823F-D268-4853-A2D4-8EECB640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9C629-D222-48F5-8894-0CE2D38B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E6FDA-DC6E-4F58-B65F-79632136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197D8-26E3-48D7-9310-DA192441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F2971-6CA3-4F7B-896F-3C9D9623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C21D5-E57F-43BA-80CD-E444C8BB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14C14-1ADC-4A85-84C6-63C68C60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0F8BA-75A2-4700-8725-A25C1C6E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0A3B3-612E-472D-B5C5-4DA86F44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76103-0250-493F-88AA-BB3BE6C2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A760D-4C02-4B6A-94CE-A57341AA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9E9E2-A866-42A0-A2F6-F162746A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8E69D-B4A8-4278-B945-4FC5FC48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CB2C4-47FB-4941-98D2-1A0F22FC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79266-8D68-4045-AFBC-72F2FDC4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B3609-85C0-4D03-8D82-F0AA0C8F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2B820-22D1-4046-9197-8EB23087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3485B-030C-4FD0-A288-912E4E34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62075-E046-4122-A09B-63C660D6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0085A-1175-4517-88CD-E54D7434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7672F-145F-4FBE-8156-A713DEAD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A638A-BAC0-43A9-83D5-FF680DB1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1BF1F-C315-4DE8-8A7F-324ABB26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DB322-CCBD-46D9-B0C4-271B1201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1793D-80BD-4085-A30A-BB20589A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903D7-7DB5-4ABF-AC75-6B2C22A4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AB537-B754-4BD4-B667-9E4A972C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FD3CD-99D6-4141-9CDB-AD64413B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F121F-49C2-4948-A0ED-E54D2F6A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5E8A7-210D-4A4C-9189-1451E757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0B2FF-3034-46E7-82AF-33F2481A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75BD6-3126-469E-AAFB-EB62E841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6FA28-8056-41F6-80CF-4A91A065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90671-E774-4F1E-A348-011DCE79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A17DB-4EC8-425B-9CFE-CDE3B6DD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B1D34-F65B-4158-AE22-32E4DC1A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1F3D2-55B7-45A6-8E6B-25C5FA74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6063D-0B4F-4ECC-80EA-F12A36D8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5E396-3160-4A89-87E6-8FF62C74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1508-12AA-4841-9C56-E4D093EFF6E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238E-3BF7-456A-8606-29FD31C33B0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DEB8-97AE-4B02-96DE-0F9A5347F96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06E3-BCCF-46EC-B636-41C93EC0527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EE1C-2BB7-4968-B7F7-0E742A9B624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AC30-9E0F-4221-ADAA-7CC8B67F24F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4019-E51F-43B7-9C42-2CE95998E25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E8EC-A8E3-4EEA-9CF3-81013E18A78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C2CC-582D-461E-BD6F-D2AFC86BE1D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5691-8AE0-40FB-A890-25003C05042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F1A8-C230-4FE8-9119-86D06AD29C7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C3C1-8C72-41C6-B355-4DA770115C2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任意多边形 7"/>
          <p:cNvSpPr/>
          <p:nvPr/>
        </p:nvSpPr>
        <p:spPr>
          <a:xfrm>
            <a:off x="0" y="1855800"/>
            <a:ext cx="12192120" cy="5002200"/>
          </a:xfrm>
          <a:custGeom>
            <a:avLst/>
            <a:gdLst/>
            <a:ahLst/>
            <a:rect l="l" t="t" r="r" b="b"/>
            <a:pathLst>
              <a:path w="12192000" h="5002306">
                <a:moveTo>
                  <a:pt x="0" y="0"/>
                </a:moveTo>
                <a:lnTo>
                  <a:pt x="64750" y="0"/>
                </a:lnTo>
                <a:lnTo>
                  <a:pt x="70790" y="2044"/>
                </a:lnTo>
                <a:cubicBezTo>
                  <a:pt x="1187555" y="361966"/>
                  <a:pt x="2750228" y="620381"/>
                  <a:pt x="4533859" y="717458"/>
                </a:cubicBezTo>
                <a:lnTo>
                  <a:pt x="5215437" y="745125"/>
                </a:lnTo>
                <a:lnTo>
                  <a:pt x="5226599" y="781084"/>
                </a:lnTo>
                <a:cubicBezTo>
                  <a:pt x="5400116" y="1191324"/>
                  <a:pt x="5806331" y="1479177"/>
                  <a:pt x="6279776" y="1479177"/>
                </a:cubicBezTo>
                <a:cubicBezTo>
                  <a:pt x="6753222" y="1479177"/>
                  <a:pt x="7159437" y="1191324"/>
                  <a:pt x="7332954" y="781084"/>
                </a:cubicBezTo>
                <a:lnTo>
                  <a:pt x="7348410" y="731293"/>
                </a:lnTo>
                <a:lnTo>
                  <a:pt x="7689244" y="717458"/>
                </a:lnTo>
                <a:cubicBezTo>
                  <a:pt x="9472875" y="620381"/>
                  <a:pt x="11035548" y="361966"/>
                  <a:pt x="12152313" y="2044"/>
                </a:cubicBezTo>
                <a:lnTo>
                  <a:pt x="12158353" y="0"/>
                </a:lnTo>
                <a:lnTo>
                  <a:pt x="12192000" y="0"/>
                </a:lnTo>
                <a:lnTo>
                  <a:pt x="12192000" y="5002306"/>
                </a:lnTo>
                <a:lnTo>
                  <a:pt x="0" y="500230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1" name="椭圆 3"/>
          <p:cNvGrpSpPr/>
          <p:nvPr/>
        </p:nvGrpSpPr>
        <p:grpSpPr>
          <a:xfrm>
            <a:off x="5194440" y="1152360"/>
            <a:ext cx="2193840" cy="2193840"/>
            <a:chOff x="5194440" y="1152360"/>
            <a:chExt cx="2193840" cy="2193840"/>
          </a:xfrm>
        </p:grpSpPr>
        <p:pic>
          <p:nvPicPr>
            <p:cNvPr id="522" name="椭圆 3" descr=""/>
            <p:cNvPicPr/>
            <p:nvPr/>
          </p:nvPicPr>
          <p:blipFill>
            <a:blip r:embed="rId1"/>
            <a:stretch/>
          </p:blipFill>
          <p:spPr>
            <a:xfrm>
              <a:off x="5194440" y="1152360"/>
              <a:ext cx="219384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Text Box 5"/>
            <p:cNvSpPr/>
            <p:nvPr/>
          </p:nvSpPr>
          <p:spPr>
            <a:xfrm>
              <a:off x="5554800" y="1528560"/>
              <a:ext cx="147312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3f78"/>
                  </a:solidFill>
                  <a:latin typeface="微软雅黑"/>
                  <a:ea typeface="微软雅黑"/>
                </a:rPr>
                <a:t>项目</a:t>
              </a:r>
              <a:r>
                <a:rPr b="0" lang="en-US" sz="3600" spc="-1" strike="noStrike">
                  <a:solidFill>
                    <a:srgbClr val="003f78"/>
                  </a:solidFill>
                  <a:latin typeface="微软雅黑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文本框 8"/>
          <p:cNvSpPr/>
          <p:nvPr/>
        </p:nvSpPr>
        <p:spPr>
          <a:xfrm>
            <a:off x="1365120" y="3354480"/>
            <a:ext cx="946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城市轨道交通行车组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9"/>
          <p:cNvSpPr/>
          <p:nvPr/>
        </p:nvSpPr>
        <p:spPr>
          <a:xfrm>
            <a:off x="3967200" y="4192560"/>
            <a:ext cx="44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城市轨道交通行车组织入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接连接符 15"/>
          <p:cNvSpPr/>
          <p:nvPr/>
        </p:nvSpPr>
        <p:spPr>
          <a:xfrm>
            <a:off x="8437680" y="4454640"/>
            <a:ext cx="107928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直接连接符 16"/>
          <p:cNvSpPr/>
          <p:nvPr/>
        </p:nvSpPr>
        <p:spPr>
          <a:xfrm>
            <a:off x="2990880" y="4454640"/>
            <a:ext cx="107964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矩形 19"/>
          <p:cNvSpPr/>
          <p:nvPr/>
        </p:nvSpPr>
        <p:spPr>
          <a:xfrm>
            <a:off x="1382760" y="78912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线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直接连接符 22"/>
          <p:cNvSpPr/>
          <p:nvPr/>
        </p:nvSpPr>
        <p:spPr>
          <a:xfrm>
            <a:off x="1469880" y="2435400"/>
            <a:ext cx="9137880" cy="5364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48"/>
          <p:cNvSpPr/>
          <p:nvPr/>
        </p:nvSpPr>
        <p:spPr>
          <a:xfrm>
            <a:off x="1382760" y="1584360"/>
            <a:ext cx="9069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线路是城市轨道交通系统车辆和列车运行的基础设施，它不仅确定了列车在城市三维空间的走向，而且是城市轨道交通安全、快速运行的前提条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-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组合 5"/>
          <p:cNvGrpSpPr/>
          <p:nvPr/>
        </p:nvGrpSpPr>
        <p:grpSpPr>
          <a:xfrm>
            <a:off x="1469880" y="2803680"/>
            <a:ext cx="2468880" cy="2232000"/>
            <a:chOff x="1469880" y="2803680"/>
            <a:chExt cx="2468880" cy="2232000"/>
          </a:xfrm>
        </p:grpSpPr>
        <p:sp>
          <p:nvSpPr>
            <p:cNvPr id="664" name="圆角矩形 4"/>
            <p:cNvSpPr/>
            <p:nvPr/>
          </p:nvSpPr>
          <p:spPr>
            <a:xfrm>
              <a:off x="1483560" y="2805120"/>
              <a:ext cx="2455200" cy="2230560"/>
            </a:xfrm>
            <a:prstGeom prst="roundRect">
              <a:avLst>
                <a:gd name="adj" fmla="val 5528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文本框 18"/>
            <p:cNvSpPr/>
            <p:nvPr/>
          </p:nvSpPr>
          <p:spPr>
            <a:xfrm>
              <a:off x="1469880" y="2803680"/>
              <a:ext cx="245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正线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直接连接符 27"/>
            <p:cNvSpPr/>
            <p:nvPr/>
          </p:nvSpPr>
          <p:spPr>
            <a:xfrm>
              <a:off x="1749600" y="3213360"/>
              <a:ext cx="1938240" cy="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文本框 31"/>
            <p:cNvSpPr/>
            <p:nvPr/>
          </p:nvSpPr>
          <p:spPr>
            <a:xfrm>
              <a:off x="1793880" y="3489120"/>
              <a:ext cx="180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正线是贯穿所有车站、区间，供车辆载客运营的线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8" name="组合 12"/>
          <p:cNvGrpSpPr/>
          <p:nvPr/>
        </p:nvGrpSpPr>
        <p:grpSpPr>
          <a:xfrm>
            <a:off x="4519440" y="2789280"/>
            <a:ext cx="3402360" cy="3886560"/>
            <a:chOff x="4519440" y="2789280"/>
            <a:chExt cx="3402360" cy="3886560"/>
          </a:xfrm>
        </p:grpSpPr>
        <p:sp>
          <p:nvSpPr>
            <p:cNvPr id="669" name="圆角矩形 4"/>
            <p:cNvSpPr/>
            <p:nvPr/>
          </p:nvSpPr>
          <p:spPr>
            <a:xfrm>
              <a:off x="4538160" y="2789280"/>
              <a:ext cx="3383640" cy="3886560"/>
            </a:xfrm>
            <a:custGeom>
              <a:avLst/>
              <a:gdLst>
                <a:gd name="textAreaLeft" fmla="*/ 54720 w 3383640"/>
                <a:gd name="textAreaRight" fmla="*/ 3328920 w 3383640"/>
                <a:gd name="textAreaTop" fmla="*/ 54720 h 3886560"/>
                <a:gd name="textAreaBottom" fmla="*/ 3831840 h 3886560"/>
              </a:gdLst>
              <a:ahLst/>
              <a:rect l="textAreaLeft" t="textAreaTop" r="textAreaRight" b="textAreaBottom"/>
              <a:pathLst>
                <a:path w="21600" h="24810">
                  <a:moveTo>
                    <a:pt x="1194" y="0"/>
                  </a:moveTo>
                  <a:arcTo wR="1194" hR="1194" stAng="16200000" swAng="-5400000"/>
                  <a:lnTo>
                    <a:pt x="0" y="23616"/>
                  </a:lnTo>
                  <a:arcTo wR="1194" hR="1194" stAng="10800000" swAng="-5400000"/>
                  <a:lnTo>
                    <a:pt x="20406" y="24810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文本框 18"/>
            <p:cNvSpPr/>
            <p:nvPr/>
          </p:nvSpPr>
          <p:spPr>
            <a:xfrm>
              <a:off x="4519440" y="2885400"/>
              <a:ext cx="336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辅助线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直接连接符 27"/>
            <p:cNvSpPr/>
            <p:nvPr/>
          </p:nvSpPr>
          <p:spPr>
            <a:xfrm>
              <a:off x="4902120" y="3447720"/>
              <a:ext cx="2652480" cy="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文本框 31"/>
            <p:cNvSpPr/>
            <p:nvPr/>
          </p:nvSpPr>
          <p:spPr>
            <a:xfrm>
              <a:off x="4962960" y="3470400"/>
              <a:ext cx="247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辅助线是为了保证正线运行，合理调度列车，为空载列车提供折返、停放、检查、转线及出入车辆段而配置的线路。辅助线包括折返线、临时停车线、渡线、车辆段出入线、联络线等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3" name="组合 17"/>
          <p:cNvGrpSpPr/>
          <p:nvPr/>
        </p:nvGrpSpPr>
        <p:grpSpPr>
          <a:xfrm>
            <a:off x="8486640" y="2805120"/>
            <a:ext cx="2638440" cy="3033720"/>
            <a:chOff x="8486640" y="2805120"/>
            <a:chExt cx="2638440" cy="3033720"/>
          </a:xfrm>
        </p:grpSpPr>
        <p:sp>
          <p:nvSpPr>
            <p:cNvPr id="674" name="圆角矩形 4"/>
            <p:cNvSpPr/>
            <p:nvPr/>
          </p:nvSpPr>
          <p:spPr>
            <a:xfrm>
              <a:off x="8501400" y="2805120"/>
              <a:ext cx="2623680" cy="3033720"/>
            </a:xfrm>
            <a:custGeom>
              <a:avLst/>
              <a:gdLst>
                <a:gd name="textAreaLeft" fmla="*/ 42480 w 2623680"/>
                <a:gd name="textAreaRight" fmla="*/ 2581200 w 2623680"/>
                <a:gd name="textAreaTop" fmla="*/ 42480 h 3033720"/>
                <a:gd name="textAreaBottom" fmla="*/ 2991240 h 3033720"/>
              </a:gdLst>
              <a:ahLst/>
              <a:rect l="textAreaLeft" t="textAreaTop" r="textAreaRight" b="textAreaBottom"/>
              <a:pathLst>
                <a:path w="21600" h="24975">
                  <a:moveTo>
                    <a:pt x="1194" y="0"/>
                  </a:moveTo>
                  <a:arcTo wR="1194" hR="1194" stAng="16200000" swAng="-5400000"/>
                  <a:lnTo>
                    <a:pt x="0" y="23781"/>
                  </a:lnTo>
                  <a:arcTo wR="1194" hR="1194" stAng="10800000" swAng="-5400000"/>
                  <a:lnTo>
                    <a:pt x="20406" y="24975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文本框 18"/>
            <p:cNvSpPr/>
            <p:nvPr/>
          </p:nvSpPr>
          <p:spPr>
            <a:xfrm>
              <a:off x="8486640" y="2886120"/>
              <a:ext cx="262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车场线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直接连接符 27"/>
            <p:cNvSpPr/>
            <p:nvPr/>
          </p:nvSpPr>
          <p:spPr>
            <a:xfrm>
              <a:off x="8785440" y="3360240"/>
              <a:ext cx="2071440" cy="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文本框 31"/>
            <p:cNvSpPr/>
            <p:nvPr/>
          </p:nvSpPr>
          <p:spPr>
            <a:xfrm>
              <a:off x="8832960" y="3735360"/>
              <a:ext cx="1932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车场线是车辆检修作业用的线路，行车速度较低，线路标准只是满足场区作业要求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矩形 19"/>
          <p:cNvSpPr/>
          <p:nvPr/>
        </p:nvSpPr>
        <p:spPr>
          <a:xfrm>
            <a:off x="1382760" y="78912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线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直接连接符 22"/>
          <p:cNvSpPr/>
          <p:nvPr/>
        </p:nvSpPr>
        <p:spPr>
          <a:xfrm>
            <a:off x="1484280" y="2814480"/>
            <a:ext cx="9136080" cy="5580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矩形 48"/>
          <p:cNvSpPr/>
          <p:nvPr/>
        </p:nvSpPr>
        <p:spPr>
          <a:xfrm>
            <a:off x="1382760" y="1587600"/>
            <a:ext cx="906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轨道是城市轨道交通系统线路的重要组成部分。轨道是作为一个整体结构，铺设在路基之上，直接承受列车车辆及其荷载的巨大压力，对列车运行起着导向作用的一组设备。轨道一般由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道床、轨枕、钢轨、联结零件、防爬器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组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-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图片 1" descr=""/>
          <p:cNvPicPr/>
          <p:nvPr/>
        </p:nvPicPr>
        <p:blipFill>
          <a:blip r:embed="rId1"/>
          <a:stretch/>
        </p:blipFill>
        <p:spPr>
          <a:xfrm>
            <a:off x="2808360" y="3286080"/>
            <a:ext cx="61945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矩形 19"/>
          <p:cNvSpPr/>
          <p:nvPr/>
        </p:nvSpPr>
        <p:spPr>
          <a:xfrm>
            <a:off x="1382760" y="78912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直接连接符 22"/>
          <p:cNvSpPr/>
          <p:nvPr/>
        </p:nvSpPr>
        <p:spPr>
          <a:xfrm>
            <a:off x="1382760" y="1960560"/>
            <a:ext cx="9137520" cy="5400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矩形 48"/>
          <p:cNvSpPr/>
          <p:nvPr/>
        </p:nvSpPr>
        <p:spPr>
          <a:xfrm>
            <a:off x="1382760" y="1587600"/>
            <a:ext cx="906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站是是列车到发、通过、折返、临时停车的场所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-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矩形 2"/>
          <p:cNvSpPr/>
          <p:nvPr/>
        </p:nvSpPr>
        <p:spPr>
          <a:xfrm>
            <a:off x="1176480" y="2389320"/>
            <a:ext cx="5618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于城市轨道交通运营方而言，车站是是列车到发、通过、折返、临时停车的地点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于乘客而言，车站是其上下车、换乘的场所，还具有购物、集聚的功能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于城市而言，车站往往具有城市景观等一系列功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Picture 2" descr="]OBR7]S~Z9VK3Z0{VQ}808P"/>
          <p:cNvPicPr/>
          <p:nvPr/>
        </p:nvPicPr>
        <p:blipFill>
          <a:blip r:embed="rId1"/>
          <a:stretch/>
        </p:blipFill>
        <p:spPr>
          <a:xfrm>
            <a:off x="6991200" y="2928960"/>
            <a:ext cx="45547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矩形 19"/>
          <p:cNvSpPr/>
          <p:nvPr/>
        </p:nvSpPr>
        <p:spPr>
          <a:xfrm>
            <a:off x="1382760" y="78912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直接连接符 22"/>
          <p:cNvSpPr/>
          <p:nvPr/>
        </p:nvSpPr>
        <p:spPr>
          <a:xfrm>
            <a:off x="1270080" y="2897280"/>
            <a:ext cx="9137520" cy="5544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矩形 48"/>
          <p:cNvSpPr/>
          <p:nvPr/>
        </p:nvSpPr>
        <p:spPr>
          <a:xfrm>
            <a:off x="1228680" y="1587600"/>
            <a:ext cx="9069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段是城市轨道交通系统中对车辆进行运营管理、停放、维修及保养的场所。一般情况下，一条线路可设置一个车辆段。线路长度超过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km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，为了有利于运营和分担车辆的检查清洗工作量，可在线路的另一端设停车场，负责部分车辆的停放、运用、检查和整备工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-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组合 7"/>
          <p:cNvGrpSpPr/>
          <p:nvPr/>
        </p:nvGrpSpPr>
        <p:grpSpPr>
          <a:xfrm>
            <a:off x="2187720" y="3382920"/>
            <a:ext cx="2469960" cy="2978280"/>
            <a:chOff x="2187720" y="3382920"/>
            <a:chExt cx="2469960" cy="2978280"/>
          </a:xfrm>
        </p:grpSpPr>
        <p:sp>
          <p:nvSpPr>
            <p:cNvPr id="694" name="圆角矩形 4"/>
            <p:cNvSpPr/>
            <p:nvPr/>
          </p:nvSpPr>
          <p:spPr>
            <a:xfrm>
              <a:off x="2201400" y="3384360"/>
              <a:ext cx="2456280" cy="2976840"/>
            </a:xfrm>
            <a:custGeom>
              <a:avLst/>
              <a:gdLst>
                <a:gd name="textAreaLeft" fmla="*/ 39600 w 2456280"/>
                <a:gd name="textAreaRight" fmla="*/ 2416680 w 2456280"/>
                <a:gd name="textAreaTop" fmla="*/ 39600 h 2976840"/>
                <a:gd name="textAreaBottom" fmla="*/ 2937240 h 2976840"/>
              </a:gdLst>
              <a:ahLst/>
              <a:rect l="textAreaLeft" t="textAreaTop" r="textAreaRight" b="textAreaBottom"/>
              <a:pathLst>
                <a:path w="21600" h="26177">
                  <a:moveTo>
                    <a:pt x="1194" y="0"/>
                  </a:moveTo>
                  <a:arcTo wR="1194" hR="1194" stAng="16200000" swAng="-5400000"/>
                  <a:lnTo>
                    <a:pt x="0" y="24983"/>
                  </a:lnTo>
                  <a:arcTo wR="1194" hR="1194" stAng="10800000" swAng="-5400000"/>
                  <a:lnTo>
                    <a:pt x="20406" y="26177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文本框 18"/>
            <p:cNvSpPr/>
            <p:nvPr/>
          </p:nvSpPr>
          <p:spPr>
            <a:xfrm>
              <a:off x="2187720" y="3382920"/>
              <a:ext cx="24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检修车辆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直接连接符 27"/>
            <p:cNvSpPr/>
            <p:nvPr/>
          </p:nvSpPr>
          <p:spPr>
            <a:xfrm>
              <a:off x="2467440" y="3792600"/>
              <a:ext cx="1939320" cy="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文本框 31"/>
            <p:cNvSpPr/>
            <p:nvPr/>
          </p:nvSpPr>
          <p:spPr>
            <a:xfrm>
              <a:off x="2512080" y="4068720"/>
              <a:ext cx="1809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检修车辆段用于列车的检修工作，根据其检修作业范围可分为架</a:t>
              </a: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(</a:t>
              </a: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厂</a:t>
              </a: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) </a:t>
              </a: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修段和定修段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12"/>
          <p:cNvGrpSpPr/>
          <p:nvPr/>
        </p:nvGrpSpPr>
        <p:grpSpPr>
          <a:xfrm>
            <a:off x="5983200" y="3382920"/>
            <a:ext cx="2455920" cy="2978280"/>
            <a:chOff x="5983200" y="3382920"/>
            <a:chExt cx="2455920" cy="2978280"/>
          </a:xfrm>
        </p:grpSpPr>
        <p:sp>
          <p:nvSpPr>
            <p:cNvPr id="699" name="圆角矩形 4"/>
            <p:cNvSpPr/>
            <p:nvPr/>
          </p:nvSpPr>
          <p:spPr>
            <a:xfrm>
              <a:off x="5983200" y="3382920"/>
              <a:ext cx="2454840" cy="2978280"/>
            </a:xfrm>
            <a:custGeom>
              <a:avLst/>
              <a:gdLst>
                <a:gd name="textAreaLeft" fmla="*/ 39600 w 2454840"/>
                <a:gd name="textAreaRight" fmla="*/ 2415240 w 2454840"/>
                <a:gd name="textAreaTop" fmla="*/ 39600 h 2978280"/>
                <a:gd name="textAreaBottom" fmla="*/ 2938680 h 2978280"/>
              </a:gdLst>
              <a:ahLst/>
              <a:rect l="textAreaLeft" t="textAreaTop" r="textAreaRight" b="textAreaBottom"/>
              <a:pathLst>
                <a:path w="21600" h="26205">
                  <a:moveTo>
                    <a:pt x="1194" y="0"/>
                  </a:moveTo>
                  <a:arcTo wR="1194" hR="1194" stAng="16200000" swAng="-5400000"/>
                  <a:lnTo>
                    <a:pt x="0" y="25011"/>
                  </a:lnTo>
                  <a:arcTo wR="1194" hR="1194" stAng="10800000" swAng="-5400000"/>
                  <a:lnTo>
                    <a:pt x="20406" y="26205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文本框 18"/>
            <p:cNvSpPr/>
            <p:nvPr/>
          </p:nvSpPr>
          <p:spPr>
            <a:xfrm>
              <a:off x="5983200" y="3418560"/>
              <a:ext cx="245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运用停车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直接连接符 27"/>
            <p:cNvSpPr/>
            <p:nvPr/>
          </p:nvSpPr>
          <p:spPr>
            <a:xfrm>
              <a:off x="6248880" y="3927960"/>
              <a:ext cx="1937880" cy="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文本框 31"/>
            <p:cNvSpPr/>
            <p:nvPr/>
          </p:nvSpPr>
          <p:spPr>
            <a:xfrm>
              <a:off x="6293520" y="4296240"/>
              <a:ext cx="180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运用停车场要负责段属车辆的停放、列检和乘务工作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矩形 19"/>
          <p:cNvSpPr/>
          <p:nvPr/>
        </p:nvSpPr>
        <p:spPr>
          <a:xfrm>
            <a:off x="1382760" y="78912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直接连接符 22"/>
          <p:cNvSpPr/>
          <p:nvPr/>
        </p:nvSpPr>
        <p:spPr>
          <a:xfrm>
            <a:off x="1320840" y="1811160"/>
            <a:ext cx="9137520" cy="5400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-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1"/>
          <p:cNvSpPr/>
          <p:nvPr/>
        </p:nvSpPr>
        <p:spPr>
          <a:xfrm>
            <a:off x="1382760" y="2428920"/>
            <a:ext cx="6095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段的主要业务包括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列车在段内调车、停放、日常检查，一般故障出来和清扫洗刷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的技术检查、月修、定修、架修和临修试车等作业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列车回段折返乘务司机换班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设备和机具的维修及调车机车的日常维修工作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救援抢修队和设备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64886846hce10dfaa8a4e&amp;690"/>
          <p:cNvPicPr/>
          <p:nvPr/>
        </p:nvPicPr>
        <p:blipFill>
          <a:blip r:embed="rId1"/>
          <a:srcRect l="0" t="0" r="2197" b="14074"/>
          <a:stretch/>
        </p:blipFill>
        <p:spPr>
          <a:xfrm>
            <a:off x="7643880" y="2620800"/>
            <a:ext cx="36576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矩形 19"/>
          <p:cNvSpPr/>
          <p:nvPr/>
        </p:nvSpPr>
        <p:spPr>
          <a:xfrm>
            <a:off x="1382760" y="78912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供电系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矩形 48"/>
          <p:cNvSpPr/>
          <p:nvPr/>
        </p:nvSpPr>
        <p:spPr>
          <a:xfrm>
            <a:off x="1382760" y="1573200"/>
            <a:ext cx="4456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城市轨道交通系统是电力驱动的系统，因此其电力系统是列车运行的动力来源。保证电力系统运行正常，是行车组织工作的关键任务之一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-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5472000" y="2235240"/>
            <a:ext cx="573264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矩形 19"/>
          <p:cNvSpPr/>
          <p:nvPr/>
        </p:nvSpPr>
        <p:spPr>
          <a:xfrm>
            <a:off x="1382760" y="78912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号系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直接连接符 22"/>
          <p:cNvSpPr/>
          <p:nvPr/>
        </p:nvSpPr>
        <p:spPr>
          <a:xfrm>
            <a:off x="1228680" y="1987560"/>
            <a:ext cx="9136080" cy="5400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矩形 48"/>
          <p:cNvSpPr/>
          <p:nvPr/>
        </p:nvSpPr>
        <p:spPr>
          <a:xfrm>
            <a:off x="1228680" y="1587600"/>
            <a:ext cx="906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号系统组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-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图片 19" descr="C:\Users\zhen\Documents\Tencent Files\648838902\Image\K1`1WI~0QP1)HLJ5PKYV`7S.jpg"/>
          <p:cNvPicPr/>
          <p:nvPr/>
        </p:nvPicPr>
        <p:blipFill>
          <a:blip r:embed="rId1"/>
          <a:stretch/>
        </p:blipFill>
        <p:spPr>
          <a:xfrm>
            <a:off x="4632480" y="2387520"/>
            <a:ext cx="5665680" cy="4305240"/>
          </a:xfrm>
          <a:prstGeom prst="rect">
            <a:avLst/>
          </a:prstGeom>
          <a:ln w="0">
            <a:noFill/>
          </a:ln>
        </p:spPr>
      </p:pic>
      <p:sp>
        <p:nvSpPr>
          <p:cNvPr id="717" name="矩形 1"/>
          <p:cNvSpPr/>
          <p:nvPr/>
        </p:nvSpPr>
        <p:spPr>
          <a:xfrm>
            <a:off x="944640" y="2441520"/>
            <a:ext cx="3149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城市轨道交通信号系统通常由列车运行自动控制系统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(ATC)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车辆段信号控制系统两大部分组成，于实现列车进路控制、列车间隔控制、调度指挥、信息管理、设备工况监测及维护管理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矩形 19"/>
          <p:cNvSpPr/>
          <p:nvPr/>
        </p:nvSpPr>
        <p:spPr>
          <a:xfrm>
            <a:off x="1382760" y="78912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号系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直接连接符 22"/>
          <p:cNvSpPr/>
          <p:nvPr/>
        </p:nvSpPr>
        <p:spPr>
          <a:xfrm>
            <a:off x="1193760" y="2668680"/>
            <a:ext cx="9137520" cy="5400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矩形 48"/>
          <p:cNvSpPr/>
          <p:nvPr/>
        </p:nvSpPr>
        <p:spPr>
          <a:xfrm>
            <a:off x="1228680" y="1587600"/>
            <a:ext cx="90694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ATC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列车运行自动控制系统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TC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包括列车自动防护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TP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、列车自动驾驶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TO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及列车自动监控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TS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三个系统，简称“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A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-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2" name="图片 5" descr="C:\Users\zhen\Desktop\2008051612404528690.jpg"/>
          <p:cNvPicPr/>
          <p:nvPr/>
        </p:nvPicPr>
        <p:blipFill>
          <a:blip r:embed="rId1"/>
          <a:stretch/>
        </p:blipFill>
        <p:spPr>
          <a:xfrm>
            <a:off x="4448160" y="3218040"/>
            <a:ext cx="38401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矩形 19"/>
          <p:cNvSpPr/>
          <p:nvPr/>
        </p:nvSpPr>
        <p:spPr>
          <a:xfrm>
            <a:off x="1382760" y="78912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号系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直接连接符 22"/>
          <p:cNvSpPr/>
          <p:nvPr/>
        </p:nvSpPr>
        <p:spPr>
          <a:xfrm>
            <a:off x="1193760" y="2262240"/>
            <a:ext cx="9137520" cy="5400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48"/>
          <p:cNvSpPr/>
          <p:nvPr/>
        </p:nvSpPr>
        <p:spPr>
          <a:xfrm>
            <a:off x="1262160" y="1474920"/>
            <a:ext cx="9069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ATC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TC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具有以下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功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-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7" name="组合 1"/>
          <p:cNvGrpSpPr/>
          <p:nvPr/>
        </p:nvGrpSpPr>
        <p:grpSpPr>
          <a:xfrm>
            <a:off x="560520" y="2478240"/>
            <a:ext cx="11536200" cy="4281840"/>
            <a:chOff x="560520" y="2478240"/>
            <a:chExt cx="11536200" cy="4281840"/>
          </a:xfrm>
        </p:grpSpPr>
        <p:grpSp>
          <p:nvGrpSpPr>
            <p:cNvPr id="728" name="组合 6"/>
            <p:cNvGrpSpPr/>
            <p:nvPr/>
          </p:nvGrpSpPr>
          <p:grpSpPr>
            <a:xfrm>
              <a:off x="560520" y="2478240"/>
              <a:ext cx="2456280" cy="2979000"/>
              <a:chOff x="560520" y="2478240"/>
              <a:chExt cx="2456280" cy="2979000"/>
            </a:xfrm>
          </p:grpSpPr>
          <p:sp>
            <p:nvSpPr>
              <p:cNvPr id="729" name="圆角矩形 4"/>
              <p:cNvSpPr/>
              <p:nvPr/>
            </p:nvSpPr>
            <p:spPr>
              <a:xfrm>
                <a:off x="560520" y="2478240"/>
                <a:ext cx="2455200" cy="2979000"/>
              </a:xfrm>
              <a:custGeom>
                <a:avLst/>
                <a:gdLst>
                  <a:gd name="textAreaLeft" fmla="*/ 39600 w 2455200"/>
                  <a:gd name="textAreaRight" fmla="*/ 2415600 w 2455200"/>
                  <a:gd name="textAreaTop" fmla="*/ 39600 h 2979000"/>
                  <a:gd name="textAreaBottom" fmla="*/ 2939400 h 2979000"/>
                </a:gdLst>
                <a:ahLst/>
                <a:rect l="textAreaLeft" t="textAreaTop" r="textAreaRight" b="textAreaBottom"/>
                <a:pathLst>
                  <a:path w="21600" h="26208">
                    <a:moveTo>
                      <a:pt x="1194" y="0"/>
                    </a:moveTo>
                    <a:arcTo wR="1194" hR="1194" stAng="16200000" swAng="-5400000"/>
                    <a:lnTo>
                      <a:pt x="0" y="25014"/>
                    </a:lnTo>
                    <a:arcTo wR="1194" hR="1194" stAng="10800000" swAng="-5400000"/>
                    <a:lnTo>
                      <a:pt x="20406" y="26208"/>
                    </a:lnTo>
                    <a:arcTo wR="1194" hR="1194" stAng="5400000" swAng="-5400000"/>
                    <a:lnTo>
                      <a:pt x="21600" y="1194"/>
                    </a:lnTo>
                    <a:arcTo wR="1194" hR="119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d9d9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文本框 18"/>
              <p:cNvSpPr/>
              <p:nvPr/>
            </p:nvSpPr>
            <p:spPr>
              <a:xfrm>
                <a:off x="560520" y="2513880"/>
                <a:ext cx="245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e6697"/>
                    </a:solidFill>
                    <a:latin typeface="微软雅黑"/>
                    <a:ea typeface="微软雅黑"/>
                  </a:rPr>
                  <a:t>ATS </a:t>
                </a:r>
                <a:r>
                  <a:rPr b="0" lang="zh-CN" sz="2400" spc="-1" strike="noStrike">
                    <a:solidFill>
                      <a:srgbClr val="2e6697"/>
                    </a:solidFill>
                    <a:latin typeface="微软雅黑"/>
                    <a:ea typeface="微软雅黑"/>
                  </a:rPr>
                  <a:t>功能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直接连接符 27"/>
              <p:cNvSpPr/>
              <p:nvPr/>
            </p:nvSpPr>
            <p:spPr>
              <a:xfrm>
                <a:off x="826200" y="3023280"/>
                <a:ext cx="1938240" cy="0"/>
              </a:xfrm>
              <a:prstGeom prst="line">
                <a:avLst/>
              </a:prstGeom>
              <a:ln w="6480">
                <a:solidFill>
                  <a:srgbClr val="2e669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文本框 31"/>
              <p:cNvSpPr/>
              <p:nvPr/>
            </p:nvSpPr>
            <p:spPr>
              <a:xfrm>
                <a:off x="915840" y="3162240"/>
                <a:ext cx="180792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可自动或由人工控制进路</a:t>
                </a:r>
                <a:r>
                  <a:rPr b="0" lang="en-US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, </a:t>
                </a:r>
                <a:r>
                  <a:rPr b="0" lang="zh-CN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进行行车调度指挥</a:t>
                </a:r>
                <a:r>
                  <a:rPr b="0" lang="en-US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, </a:t>
                </a:r>
                <a:r>
                  <a:rPr b="0" lang="zh-CN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并向行车调度员和外部系统提供信息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3" name="组合 11"/>
            <p:cNvGrpSpPr/>
            <p:nvPr/>
          </p:nvGrpSpPr>
          <p:grpSpPr>
            <a:xfrm>
              <a:off x="2724120" y="3232800"/>
              <a:ext cx="2570400" cy="3527280"/>
              <a:chOff x="2724120" y="3232800"/>
              <a:chExt cx="2570400" cy="3527280"/>
            </a:xfrm>
          </p:grpSpPr>
          <p:sp>
            <p:nvSpPr>
              <p:cNvPr id="734" name="圆角矩形 4"/>
              <p:cNvSpPr/>
              <p:nvPr/>
            </p:nvSpPr>
            <p:spPr>
              <a:xfrm>
                <a:off x="2724120" y="3232800"/>
                <a:ext cx="2568960" cy="3527280"/>
              </a:xfrm>
              <a:custGeom>
                <a:avLst/>
                <a:gdLst>
                  <a:gd name="textAreaLeft" fmla="*/ 41400 w 2568960"/>
                  <a:gd name="textAreaRight" fmla="*/ 2527560 w 2568960"/>
                  <a:gd name="textAreaTop" fmla="*/ 41400 h 3527280"/>
                  <a:gd name="textAreaBottom" fmla="*/ 3485880 h 3527280"/>
                </a:gdLst>
                <a:ahLst/>
                <a:rect l="textAreaLeft" t="textAreaTop" r="textAreaRight" b="textAreaBottom"/>
                <a:pathLst>
                  <a:path w="21600" h="29656">
                    <a:moveTo>
                      <a:pt x="1194" y="0"/>
                    </a:moveTo>
                    <a:arcTo wR="1194" hR="1194" stAng="16200000" swAng="-5400000"/>
                    <a:lnTo>
                      <a:pt x="0" y="28462"/>
                    </a:lnTo>
                    <a:arcTo wR="1194" hR="1194" stAng="10800000" swAng="-5400000"/>
                    <a:lnTo>
                      <a:pt x="20406" y="29656"/>
                    </a:lnTo>
                    <a:arcTo wR="1194" hR="1194" stAng="5400000" swAng="-5400000"/>
                    <a:lnTo>
                      <a:pt x="21600" y="1194"/>
                    </a:lnTo>
                    <a:arcTo wR="1194" hR="119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d9d9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文本框 18"/>
              <p:cNvSpPr/>
              <p:nvPr/>
            </p:nvSpPr>
            <p:spPr>
              <a:xfrm>
                <a:off x="2724120" y="3275280"/>
                <a:ext cx="257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2e6697"/>
                    </a:solidFill>
                    <a:latin typeface="微软雅黑"/>
                    <a:ea typeface="微软雅黑"/>
                  </a:rPr>
                  <a:t>联锁功能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直接连接符 27"/>
              <p:cNvSpPr/>
              <p:nvPr/>
            </p:nvSpPr>
            <p:spPr>
              <a:xfrm>
                <a:off x="3002400" y="3779640"/>
                <a:ext cx="2028240" cy="0"/>
              </a:xfrm>
              <a:prstGeom prst="line">
                <a:avLst/>
              </a:prstGeom>
              <a:ln w="6480">
                <a:solidFill>
                  <a:srgbClr val="2e669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文本框 31"/>
              <p:cNvSpPr/>
              <p:nvPr/>
            </p:nvSpPr>
            <p:spPr>
              <a:xfrm>
                <a:off x="3061080" y="3915720"/>
                <a:ext cx="1892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管理进路、道岔和信号的控制</a:t>
                </a:r>
                <a:r>
                  <a:rPr b="0" lang="en-US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, </a:t>
                </a:r>
                <a:r>
                  <a:rPr b="0" lang="zh-CN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将进路、轨道电路、道岔和信号的状态信息提供给</a:t>
                </a:r>
                <a:r>
                  <a:rPr b="0" lang="en-US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TS </a:t>
                </a:r>
                <a:r>
                  <a:rPr b="0" lang="zh-CN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和</a:t>
                </a:r>
                <a:r>
                  <a:rPr b="0" lang="en-US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TC </a:t>
                </a:r>
                <a:r>
                  <a:rPr b="0" lang="zh-CN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功能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8" name="组合 16"/>
            <p:cNvGrpSpPr/>
            <p:nvPr/>
          </p:nvGrpSpPr>
          <p:grpSpPr>
            <a:xfrm>
              <a:off x="4987080" y="2517120"/>
              <a:ext cx="2469600" cy="2979000"/>
              <a:chOff x="4987080" y="2517120"/>
              <a:chExt cx="2469600" cy="2979000"/>
            </a:xfrm>
          </p:grpSpPr>
          <p:sp>
            <p:nvSpPr>
              <p:cNvPr id="739" name="圆角矩形 4"/>
              <p:cNvSpPr/>
              <p:nvPr/>
            </p:nvSpPr>
            <p:spPr>
              <a:xfrm>
                <a:off x="4987080" y="2517120"/>
                <a:ext cx="2455200" cy="2979000"/>
              </a:xfrm>
              <a:custGeom>
                <a:avLst/>
                <a:gdLst>
                  <a:gd name="textAreaLeft" fmla="*/ 39600 w 2455200"/>
                  <a:gd name="textAreaRight" fmla="*/ 2415600 w 2455200"/>
                  <a:gd name="textAreaTop" fmla="*/ 39600 h 2979000"/>
                  <a:gd name="textAreaBottom" fmla="*/ 2939400 h 2979000"/>
                </a:gdLst>
                <a:ahLst/>
                <a:rect l="textAreaLeft" t="textAreaTop" r="textAreaRight" b="textAreaBottom"/>
                <a:pathLst>
                  <a:path w="21600" h="26208">
                    <a:moveTo>
                      <a:pt x="1194" y="0"/>
                    </a:moveTo>
                    <a:arcTo wR="1194" hR="1194" stAng="16200000" swAng="-5400000"/>
                    <a:lnTo>
                      <a:pt x="0" y="25014"/>
                    </a:lnTo>
                    <a:arcTo wR="1194" hR="1194" stAng="10800000" swAng="-5400000"/>
                    <a:lnTo>
                      <a:pt x="20406" y="26208"/>
                    </a:lnTo>
                    <a:arcTo wR="1194" hR="1194" stAng="5400000" swAng="-5400000"/>
                    <a:lnTo>
                      <a:pt x="21600" y="1194"/>
                    </a:lnTo>
                    <a:arcTo wR="1194" hR="119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d9d9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文本框 18"/>
              <p:cNvSpPr/>
              <p:nvPr/>
            </p:nvSpPr>
            <p:spPr>
              <a:xfrm>
                <a:off x="5000040" y="2899800"/>
                <a:ext cx="245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2e6697"/>
                    </a:solidFill>
                    <a:latin typeface="微软雅黑"/>
                    <a:ea typeface="微软雅黑"/>
                  </a:rPr>
                  <a:t>列车检测功能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直接连接符 27"/>
              <p:cNvSpPr/>
              <p:nvPr/>
            </p:nvSpPr>
            <p:spPr>
              <a:xfrm>
                <a:off x="5266080" y="3409200"/>
                <a:ext cx="1938240" cy="0"/>
              </a:xfrm>
              <a:prstGeom prst="line">
                <a:avLst/>
              </a:prstGeom>
              <a:ln w="6480">
                <a:solidFill>
                  <a:srgbClr val="2e669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文本框 31"/>
              <p:cNvSpPr/>
              <p:nvPr/>
            </p:nvSpPr>
            <p:spPr>
              <a:xfrm>
                <a:off x="5310360" y="3777480"/>
                <a:ext cx="1808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一般由轨道电路或计轴设备完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3" name="组合 21"/>
            <p:cNvGrpSpPr/>
            <p:nvPr/>
          </p:nvGrpSpPr>
          <p:grpSpPr>
            <a:xfrm>
              <a:off x="7320600" y="3729960"/>
              <a:ext cx="2469600" cy="2979000"/>
              <a:chOff x="7320600" y="3729960"/>
              <a:chExt cx="2469600" cy="2979000"/>
            </a:xfrm>
          </p:grpSpPr>
          <p:sp>
            <p:nvSpPr>
              <p:cNvPr id="744" name="圆角矩形 4"/>
              <p:cNvSpPr/>
              <p:nvPr/>
            </p:nvSpPr>
            <p:spPr>
              <a:xfrm>
                <a:off x="7320600" y="3729960"/>
                <a:ext cx="2455200" cy="2979000"/>
              </a:xfrm>
              <a:custGeom>
                <a:avLst/>
                <a:gdLst>
                  <a:gd name="textAreaLeft" fmla="*/ 39600 w 2455200"/>
                  <a:gd name="textAreaRight" fmla="*/ 2415600 w 2455200"/>
                  <a:gd name="textAreaTop" fmla="*/ 39600 h 2979000"/>
                  <a:gd name="textAreaBottom" fmla="*/ 2939400 h 2979000"/>
                </a:gdLst>
                <a:ahLst/>
                <a:rect l="textAreaLeft" t="textAreaTop" r="textAreaRight" b="textAreaBottom"/>
                <a:pathLst>
                  <a:path w="21600" h="26208">
                    <a:moveTo>
                      <a:pt x="1194" y="0"/>
                    </a:moveTo>
                    <a:arcTo wR="1194" hR="1194" stAng="16200000" swAng="-5400000"/>
                    <a:lnTo>
                      <a:pt x="0" y="25014"/>
                    </a:lnTo>
                    <a:arcTo wR="1194" hR="1194" stAng="10800000" swAng="-5400000"/>
                    <a:lnTo>
                      <a:pt x="20406" y="26208"/>
                    </a:lnTo>
                    <a:arcTo wR="1194" hR="1194" stAng="5400000" swAng="-5400000"/>
                    <a:lnTo>
                      <a:pt x="21600" y="1194"/>
                    </a:lnTo>
                    <a:arcTo wR="1194" hR="119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d9d9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文本框 23"/>
              <p:cNvSpPr/>
              <p:nvPr/>
            </p:nvSpPr>
            <p:spPr>
              <a:xfrm>
                <a:off x="7333560" y="4112640"/>
                <a:ext cx="245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e6697"/>
                    </a:solidFill>
                    <a:latin typeface="微软雅黑"/>
                    <a:ea typeface="微软雅黑"/>
                  </a:rPr>
                  <a:t>ATP/ ATO </a:t>
                </a:r>
                <a:r>
                  <a:rPr b="0" lang="zh-CN" sz="2400" spc="-1" strike="noStrike">
                    <a:solidFill>
                      <a:srgbClr val="2e6697"/>
                    </a:solidFill>
                    <a:latin typeface="微软雅黑"/>
                    <a:ea typeface="微软雅黑"/>
                  </a:rPr>
                  <a:t>功能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直接连接符 27"/>
              <p:cNvSpPr/>
              <p:nvPr/>
            </p:nvSpPr>
            <p:spPr>
              <a:xfrm>
                <a:off x="7599600" y="4622040"/>
                <a:ext cx="1938240" cy="0"/>
              </a:xfrm>
              <a:prstGeom prst="line">
                <a:avLst/>
              </a:prstGeom>
              <a:ln w="6480">
                <a:solidFill>
                  <a:srgbClr val="2e669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文本框 31"/>
              <p:cNvSpPr/>
              <p:nvPr/>
            </p:nvSpPr>
            <p:spPr>
              <a:xfrm>
                <a:off x="7643880" y="4849920"/>
                <a:ext cx="18082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en-US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TP/ ATO </a:t>
                </a:r>
                <a:r>
                  <a:rPr b="0" lang="zh-CN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轨旁功能、</a:t>
                </a:r>
                <a:r>
                  <a:rPr b="0" lang="en-US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TP/ ATO </a:t>
                </a:r>
                <a:r>
                  <a:rPr b="0" lang="zh-CN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传输功能和</a:t>
                </a:r>
                <a:r>
                  <a:rPr b="0" lang="en-US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TP/ ATO </a:t>
                </a:r>
                <a:r>
                  <a:rPr b="0" lang="zh-CN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车载功能。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8" name="组合 26"/>
            <p:cNvGrpSpPr/>
            <p:nvPr/>
          </p:nvGrpSpPr>
          <p:grpSpPr>
            <a:xfrm>
              <a:off x="9538200" y="2623320"/>
              <a:ext cx="2558520" cy="3501000"/>
              <a:chOff x="9538200" y="2623320"/>
              <a:chExt cx="2558520" cy="3501000"/>
            </a:xfrm>
          </p:grpSpPr>
          <p:sp>
            <p:nvSpPr>
              <p:cNvPr id="749" name="圆角矩形 4"/>
              <p:cNvSpPr/>
              <p:nvPr/>
            </p:nvSpPr>
            <p:spPr>
              <a:xfrm>
                <a:off x="9538200" y="2623320"/>
                <a:ext cx="2543760" cy="3501000"/>
              </a:xfrm>
              <a:custGeom>
                <a:avLst/>
                <a:gdLst>
                  <a:gd name="textAreaLeft" fmla="*/ 41040 w 2543760"/>
                  <a:gd name="textAreaRight" fmla="*/ 2502720 w 2543760"/>
                  <a:gd name="textAreaTop" fmla="*/ 41040 h 3501000"/>
                  <a:gd name="textAreaBottom" fmla="*/ 3459960 h 3501000"/>
                </a:gdLst>
                <a:ahLst/>
                <a:rect l="textAreaLeft" t="textAreaTop" r="textAreaRight" b="textAreaBottom"/>
                <a:pathLst>
                  <a:path w="21600" h="29727">
                    <a:moveTo>
                      <a:pt x="1194" y="0"/>
                    </a:moveTo>
                    <a:arcTo wR="1194" hR="1194" stAng="16200000" swAng="-5400000"/>
                    <a:lnTo>
                      <a:pt x="0" y="28533"/>
                    </a:lnTo>
                    <a:arcTo wR="1194" hR="1194" stAng="10800000" swAng="-5400000"/>
                    <a:lnTo>
                      <a:pt x="20406" y="29727"/>
                    </a:lnTo>
                    <a:arcTo wR="1194" hR="1194" stAng="5400000" swAng="-5400000"/>
                    <a:lnTo>
                      <a:pt x="21600" y="1194"/>
                    </a:lnTo>
                    <a:arcTo wR="1194" hR="119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d9d9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文本框 28"/>
              <p:cNvSpPr/>
              <p:nvPr/>
            </p:nvSpPr>
            <p:spPr>
              <a:xfrm>
                <a:off x="9551520" y="2805840"/>
                <a:ext cx="254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e6697"/>
                    </a:solidFill>
                    <a:latin typeface="微软雅黑"/>
                    <a:ea typeface="微软雅黑"/>
                  </a:rPr>
                  <a:t>PTI </a:t>
                </a:r>
                <a:r>
                  <a:rPr b="0" lang="zh-CN" sz="2400" spc="-1" strike="noStrike">
                    <a:solidFill>
                      <a:srgbClr val="2e6697"/>
                    </a:solidFill>
                    <a:latin typeface="微软雅黑"/>
                    <a:ea typeface="微软雅黑"/>
                  </a:rPr>
                  <a:t>功能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直接连接符 27"/>
              <p:cNvSpPr/>
              <p:nvPr/>
            </p:nvSpPr>
            <p:spPr>
              <a:xfrm>
                <a:off x="9827280" y="3319920"/>
                <a:ext cx="2008080" cy="0"/>
              </a:xfrm>
              <a:prstGeom prst="line">
                <a:avLst/>
              </a:prstGeom>
              <a:ln w="6480">
                <a:solidFill>
                  <a:srgbClr val="2e669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文本框 31"/>
              <p:cNvSpPr/>
              <p:nvPr/>
            </p:nvSpPr>
            <p:spPr>
              <a:xfrm>
                <a:off x="9876240" y="3531240"/>
                <a:ext cx="1870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向</a:t>
                </a:r>
                <a:r>
                  <a:rPr b="0" lang="en-US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TS </a:t>
                </a:r>
                <a:r>
                  <a:rPr b="0" lang="zh-CN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报告列车的识别信息、目的号码和乘务组号和列车位置数据</a:t>
                </a:r>
                <a:r>
                  <a:rPr b="0" lang="en-US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, </a:t>
                </a:r>
                <a:r>
                  <a:rPr b="0" lang="zh-CN" sz="20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以优化列车运行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矩形 19"/>
          <p:cNvSpPr/>
          <p:nvPr/>
        </p:nvSpPr>
        <p:spPr>
          <a:xfrm>
            <a:off x="1382760" y="78912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号系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直接连接符 22"/>
          <p:cNvSpPr/>
          <p:nvPr/>
        </p:nvSpPr>
        <p:spPr>
          <a:xfrm>
            <a:off x="1160640" y="2095560"/>
            <a:ext cx="9137520" cy="5400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矩形 48"/>
          <p:cNvSpPr/>
          <p:nvPr/>
        </p:nvSpPr>
        <p:spPr>
          <a:xfrm>
            <a:off x="1228680" y="1587600"/>
            <a:ext cx="9069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段信号控制系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-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矩形 1"/>
          <p:cNvSpPr/>
          <p:nvPr/>
        </p:nvSpPr>
        <p:spPr>
          <a:xfrm>
            <a:off x="1171440" y="2657520"/>
            <a:ext cx="791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段信号控制系统设一套联锁设备，用以实现车辆段的进路控制，并通过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TS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段分机与行车指挥中心交换信息。车辆段联锁设备前期采用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0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气集中联锁，近来均采用计算机联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31"/>
          <p:cNvSpPr/>
          <p:nvPr/>
        </p:nvSpPr>
        <p:spPr>
          <a:xfrm>
            <a:off x="0" y="0"/>
            <a:ext cx="12192120" cy="154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文本框 4"/>
          <p:cNvSpPr/>
          <p:nvPr/>
        </p:nvSpPr>
        <p:spPr>
          <a:xfrm>
            <a:off x="5160960" y="57240"/>
            <a:ext cx="186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教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f78"/>
                </a:solidFill>
                <a:latin typeface="微软雅黑"/>
                <a:ea typeface="微软雅黑"/>
              </a:rPr>
              <a:t>目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直接连接符 5"/>
          <p:cNvSpPr/>
          <p:nvPr/>
        </p:nvSpPr>
        <p:spPr>
          <a:xfrm>
            <a:off x="6877080" y="587520"/>
            <a:ext cx="81612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直接连接符 6"/>
          <p:cNvSpPr/>
          <p:nvPr/>
        </p:nvSpPr>
        <p:spPr>
          <a:xfrm>
            <a:off x="4543560" y="577800"/>
            <a:ext cx="81576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直接连接符 7"/>
          <p:cNvSpPr/>
          <p:nvPr/>
        </p:nvSpPr>
        <p:spPr>
          <a:xfrm>
            <a:off x="4492800" y="1327320"/>
            <a:ext cx="320040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直接连接符 8"/>
          <p:cNvSpPr/>
          <p:nvPr/>
        </p:nvSpPr>
        <p:spPr>
          <a:xfrm>
            <a:off x="4543560" y="57780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直接连接符 9"/>
          <p:cNvSpPr/>
          <p:nvPr/>
        </p:nvSpPr>
        <p:spPr>
          <a:xfrm>
            <a:off x="7693200" y="57780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接连接符 11"/>
          <p:cNvSpPr/>
          <p:nvPr/>
        </p:nvSpPr>
        <p:spPr>
          <a:xfrm>
            <a:off x="2206800" y="1380960"/>
            <a:ext cx="8272440" cy="0"/>
          </a:xfrm>
          <a:prstGeom prst="line">
            <a:avLst/>
          </a:prstGeom>
          <a:ln w="6480">
            <a:solidFill>
              <a:srgbClr val="0136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组合 1"/>
          <p:cNvGrpSpPr/>
          <p:nvPr/>
        </p:nvGrpSpPr>
        <p:grpSpPr>
          <a:xfrm>
            <a:off x="1265400" y="1560600"/>
            <a:ext cx="9675720" cy="1041480"/>
            <a:chOff x="1265400" y="1560600"/>
            <a:chExt cx="9675720" cy="1041480"/>
          </a:xfrm>
        </p:grpSpPr>
        <p:sp>
          <p:nvSpPr>
            <p:cNvPr id="537" name="任意多边形 12"/>
            <p:cNvSpPr/>
            <p:nvPr/>
          </p:nvSpPr>
          <p:spPr>
            <a:xfrm>
              <a:off x="1265400" y="1847880"/>
              <a:ext cx="9675720" cy="754200"/>
            </a:xfrm>
            <a:custGeom>
              <a:avLst/>
              <a:gdLst/>
              <a:ahLst/>
              <a:rect l="l" t="t" r="r" b="b"/>
              <a:pathLst>
                <a:path w="1284514" h="772886">
                  <a:moveTo>
                    <a:pt x="400079" y="0"/>
                  </a:moveTo>
                  <a:lnTo>
                    <a:pt x="0" y="0"/>
                  </a:lnTo>
                  <a:lnTo>
                    <a:pt x="0" y="772886"/>
                  </a:lnTo>
                  <a:lnTo>
                    <a:pt x="1284514" y="772886"/>
                  </a:lnTo>
                  <a:lnTo>
                    <a:pt x="1284514" y="3642"/>
                  </a:lnTo>
                  <a:lnTo>
                    <a:pt x="948799" y="31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文本框 13"/>
            <p:cNvSpPr/>
            <p:nvPr/>
          </p:nvSpPr>
          <p:spPr>
            <a:xfrm>
              <a:off x="5967360" y="1560600"/>
              <a:ext cx="6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文本框 14"/>
            <p:cNvSpPr/>
            <p:nvPr/>
          </p:nvSpPr>
          <p:spPr>
            <a:xfrm>
              <a:off x="1390680" y="1994040"/>
              <a:ext cx="942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</a:rPr>
                <a:t>了解城市轨道交通的特点及其对城市轨道交通行车组织工作的要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0" name="文本框 21"/>
          <p:cNvSpPr/>
          <p:nvPr/>
        </p:nvSpPr>
        <p:spPr>
          <a:xfrm>
            <a:off x="1954080" y="11811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22"/>
          <p:cNvSpPr/>
          <p:nvPr/>
        </p:nvSpPr>
        <p:spPr>
          <a:xfrm flipV="1">
            <a:off x="10226520" y="11818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2" name="组合 29"/>
          <p:cNvGrpSpPr/>
          <p:nvPr/>
        </p:nvGrpSpPr>
        <p:grpSpPr>
          <a:xfrm>
            <a:off x="1265400" y="2592360"/>
            <a:ext cx="9675720" cy="1041480"/>
            <a:chOff x="1265400" y="2592360"/>
            <a:chExt cx="9675720" cy="1041480"/>
          </a:xfrm>
        </p:grpSpPr>
        <p:sp>
          <p:nvSpPr>
            <p:cNvPr id="543" name="任意多边形 12"/>
            <p:cNvSpPr/>
            <p:nvPr/>
          </p:nvSpPr>
          <p:spPr>
            <a:xfrm>
              <a:off x="1265400" y="2879640"/>
              <a:ext cx="9675720" cy="754200"/>
            </a:xfrm>
            <a:custGeom>
              <a:avLst/>
              <a:gdLst/>
              <a:ahLst/>
              <a:rect l="l" t="t" r="r" b="b"/>
              <a:pathLst>
                <a:path w="1284514" h="772886">
                  <a:moveTo>
                    <a:pt x="400079" y="0"/>
                  </a:moveTo>
                  <a:lnTo>
                    <a:pt x="0" y="0"/>
                  </a:lnTo>
                  <a:lnTo>
                    <a:pt x="0" y="772886"/>
                  </a:lnTo>
                  <a:lnTo>
                    <a:pt x="1284514" y="772886"/>
                  </a:lnTo>
                  <a:lnTo>
                    <a:pt x="1284514" y="3642"/>
                  </a:lnTo>
                  <a:lnTo>
                    <a:pt x="948799" y="31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文本框 13"/>
            <p:cNvSpPr/>
            <p:nvPr/>
          </p:nvSpPr>
          <p:spPr>
            <a:xfrm>
              <a:off x="5967360" y="2592360"/>
              <a:ext cx="6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文本框 14"/>
            <p:cNvSpPr/>
            <p:nvPr/>
          </p:nvSpPr>
          <p:spPr>
            <a:xfrm>
              <a:off x="1390680" y="3025800"/>
              <a:ext cx="942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</a:rPr>
                <a:t>了解城市轨道交通的特点及其对城市轨道交通行车组织工作的要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6" name="组合 34"/>
          <p:cNvGrpSpPr/>
          <p:nvPr/>
        </p:nvGrpSpPr>
        <p:grpSpPr>
          <a:xfrm>
            <a:off x="1254240" y="3598920"/>
            <a:ext cx="9675720" cy="1041480"/>
            <a:chOff x="1254240" y="3598920"/>
            <a:chExt cx="9675720" cy="1041480"/>
          </a:xfrm>
        </p:grpSpPr>
        <p:sp>
          <p:nvSpPr>
            <p:cNvPr id="547" name="任意多边形 12"/>
            <p:cNvSpPr/>
            <p:nvPr/>
          </p:nvSpPr>
          <p:spPr>
            <a:xfrm>
              <a:off x="1254240" y="3886200"/>
              <a:ext cx="9675720" cy="754200"/>
            </a:xfrm>
            <a:custGeom>
              <a:avLst/>
              <a:gdLst/>
              <a:ahLst/>
              <a:rect l="l" t="t" r="r" b="b"/>
              <a:pathLst>
                <a:path w="1284514" h="772886">
                  <a:moveTo>
                    <a:pt x="400079" y="0"/>
                  </a:moveTo>
                  <a:lnTo>
                    <a:pt x="0" y="0"/>
                  </a:lnTo>
                  <a:lnTo>
                    <a:pt x="0" y="772886"/>
                  </a:lnTo>
                  <a:lnTo>
                    <a:pt x="1284514" y="772886"/>
                  </a:lnTo>
                  <a:lnTo>
                    <a:pt x="1284514" y="3642"/>
                  </a:lnTo>
                  <a:lnTo>
                    <a:pt x="948799" y="31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文本框 13"/>
            <p:cNvSpPr/>
            <p:nvPr/>
          </p:nvSpPr>
          <p:spPr>
            <a:xfrm>
              <a:off x="5956200" y="3598920"/>
              <a:ext cx="6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文本框 14"/>
            <p:cNvSpPr/>
            <p:nvPr/>
          </p:nvSpPr>
          <p:spPr>
            <a:xfrm>
              <a:off x="1505160" y="4011120"/>
              <a:ext cx="942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</a:rPr>
                <a:t>掌握主要行车设备的功能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0" name="组合 38"/>
          <p:cNvGrpSpPr/>
          <p:nvPr/>
        </p:nvGrpSpPr>
        <p:grpSpPr>
          <a:xfrm>
            <a:off x="1254240" y="4640400"/>
            <a:ext cx="9675720" cy="1041120"/>
            <a:chOff x="1254240" y="4640400"/>
            <a:chExt cx="9675720" cy="1041120"/>
          </a:xfrm>
        </p:grpSpPr>
        <p:sp>
          <p:nvSpPr>
            <p:cNvPr id="551" name="任意多边形 12"/>
            <p:cNvSpPr/>
            <p:nvPr/>
          </p:nvSpPr>
          <p:spPr>
            <a:xfrm>
              <a:off x="1254240" y="4927680"/>
              <a:ext cx="9675720" cy="753840"/>
            </a:xfrm>
            <a:custGeom>
              <a:avLst/>
              <a:gdLst/>
              <a:ahLst/>
              <a:rect l="l" t="t" r="r" b="b"/>
              <a:pathLst>
                <a:path w="1284514" h="772886">
                  <a:moveTo>
                    <a:pt x="400079" y="0"/>
                  </a:moveTo>
                  <a:lnTo>
                    <a:pt x="0" y="0"/>
                  </a:lnTo>
                  <a:lnTo>
                    <a:pt x="0" y="772886"/>
                  </a:lnTo>
                  <a:lnTo>
                    <a:pt x="1284514" y="772886"/>
                  </a:lnTo>
                  <a:lnTo>
                    <a:pt x="1284514" y="3642"/>
                  </a:lnTo>
                  <a:lnTo>
                    <a:pt x="948799" y="31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文本框 13"/>
            <p:cNvSpPr/>
            <p:nvPr/>
          </p:nvSpPr>
          <p:spPr>
            <a:xfrm>
              <a:off x="5956200" y="4640400"/>
              <a:ext cx="6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文本框 14"/>
            <p:cNvSpPr/>
            <p:nvPr/>
          </p:nvSpPr>
          <p:spPr>
            <a:xfrm>
              <a:off x="1379520" y="5073840"/>
              <a:ext cx="942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</a:rPr>
                <a:t>了解城市轨道交通行车组织工作的原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4" name="组合 42"/>
          <p:cNvGrpSpPr/>
          <p:nvPr/>
        </p:nvGrpSpPr>
        <p:grpSpPr>
          <a:xfrm>
            <a:off x="1254240" y="5681520"/>
            <a:ext cx="9675720" cy="1041480"/>
            <a:chOff x="1254240" y="5681520"/>
            <a:chExt cx="9675720" cy="1041480"/>
          </a:xfrm>
        </p:grpSpPr>
        <p:sp>
          <p:nvSpPr>
            <p:cNvPr id="555" name="任意多边形 12"/>
            <p:cNvSpPr/>
            <p:nvPr/>
          </p:nvSpPr>
          <p:spPr>
            <a:xfrm>
              <a:off x="1254240" y="5968800"/>
              <a:ext cx="9675720" cy="754200"/>
            </a:xfrm>
            <a:custGeom>
              <a:avLst/>
              <a:gdLst/>
              <a:ahLst/>
              <a:rect l="l" t="t" r="r" b="b"/>
              <a:pathLst>
                <a:path w="1284514" h="772886">
                  <a:moveTo>
                    <a:pt x="400079" y="0"/>
                  </a:moveTo>
                  <a:lnTo>
                    <a:pt x="0" y="0"/>
                  </a:lnTo>
                  <a:lnTo>
                    <a:pt x="0" y="772886"/>
                  </a:lnTo>
                  <a:lnTo>
                    <a:pt x="1284514" y="772886"/>
                  </a:lnTo>
                  <a:lnTo>
                    <a:pt x="1284514" y="3642"/>
                  </a:lnTo>
                  <a:lnTo>
                    <a:pt x="948799" y="31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文本框 13"/>
            <p:cNvSpPr/>
            <p:nvPr/>
          </p:nvSpPr>
          <p:spPr>
            <a:xfrm>
              <a:off x="5956200" y="5681520"/>
              <a:ext cx="6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文本框 14"/>
            <p:cNvSpPr/>
            <p:nvPr/>
          </p:nvSpPr>
          <p:spPr>
            <a:xfrm>
              <a:off x="1379520" y="6114960"/>
              <a:ext cx="942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</a:rPr>
                <a:t>熟悉各行车人员的工作任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矩形 19"/>
          <p:cNvSpPr/>
          <p:nvPr/>
        </p:nvSpPr>
        <p:spPr>
          <a:xfrm>
            <a:off x="1382760" y="78912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信系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直接连接符 22"/>
          <p:cNvSpPr/>
          <p:nvPr/>
        </p:nvSpPr>
        <p:spPr>
          <a:xfrm>
            <a:off x="1382760" y="1811160"/>
            <a:ext cx="9137520" cy="5400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矩形 48"/>
          <p:cNvSpPr/>
          <p:nvPr/>
        </p:nvSpPr>
        <p:spPr>
          <a:xfrm>
            <a:off x="1228680" y="1587600"/>
            <a:ext cx="9069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-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矩形 1"/>
          <p:cNvSpPr/>
          <p:nvPr/>
        </p:nvSpPr>
        <p:spPr>
          <a:xfrm>
            <a:off x="1382760" y="2417760"/>
            <a:ext cx="7915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城市轨道交通的通信系统包括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纤数字传输系统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交换系统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闭路电视监控系统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线通信系统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站广播系统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文本框 3"/>
          <p:cNvSpPr/>
          <p:nvPr/>
        </p:nvSpPr>
        <p:spPr>
          <a:xfrm>
            <a:off x="865080" y="4216320"/>
            <a:ext cx="1095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城市轨道交通系统对行车组织工作的要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765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7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矩形 19"/>
          <p:cNvSpPr/>
          <p:nvPr/>
        </p:nvSpPr>
        <p:spPr>
          <a:xfrm>
            <a:off x="1382760" y="78912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直接连接符 22"/>
          <p:cNvSpPr/>
          <p:nvPr/>
        </p:nvSpPr>
        <p:spPr>
          <a:xfrm>
            <a:off x="1469880" y="2631960"/>
            <a:ext cx="9137880" cy="5580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矩形 48"/>
          <p:cNvSpPr/>
          <p:nvPr/>
        </p:nvSpPr>
        <p:spPr>
          <a:xfrm>
            <a:off x="1382760" y="1584360"/>
            <a:ext cx="906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城市轨道交通行车组织就是采用各种技术手段，保证列车运行系统、客运服务系统、检修保障系统的专业设置和设备的正常、合理运转，从而实现安全、舒适、快速、准时、便利的运送乘客，以达成乘客出行的需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0" name="组合 12"/>
          <p:cNvGrpSpPr/>
          <p:nvPr/>
        </p:nvGrpSpPr>
        <p:grpSpPr>
          <a:xfrm>
            <a:off x="469800" y="2927520"/>
            <a:ext cx="11534760" cy="4282920"/>
            <a:chOff x="469800" y="2927520"/>
            <a:chExt cx="11534760" cy="4282920"/>
          </a:xfrm>
        </p:grpSpPr>
        <p:grpSp>
          <p:nvGrpSpPr>
            <p:cNvPr id="781" name="组合 14"/>
            <p:cNvGrpSpPr/>
            <p:nvPr/>
          </p:nvGrpSpPr>
          <p:grpSpPr>
            <a:xfrm>
              <a:off x="469800" y="2927520"/>
              <a:ext cx="2456280" cy="2979720"/>
              <a:chOff x="469800" y="2927520"/>
              <a:chExt cx="2456280" cy="2979720"/>
            </a:xfrm>
          </p:grpSpPr>
          <p:sp>
            <p:nvSpPr>
              <p:cNvPr id="782" name="圆角矩形 4"/>
              <p:cNvSpPr/>
              <p:nvPr/>
            </p:nvSpPr>
            <p:spPr>
              <a:xfrm>
                <a:off x="469800" y="2927520"/>
                <a:ext cx="2455200" cy="2979720"/>
              </a:xfrm>
              <a:custGeom>
                <a:avLst/>
                <a:gdLst>
                  <a:gd name="textAreaLeft" fmla="*/ 39600 w 2455200"/>
                  <a:gd name="textAreaRight" fmla="*/ 2415600 w 2455200"/>
                  <a:gd name="textAreaTop" fmla="*/ 39600 h 2979720"/>
                  <a:gd name="textAreaBottom" fmla="*/ 2940120 h 2979720"/>
                </a:gdLst>
                <a:ahLst/>
                <a:rect l="textAreaLeft" t="textAreaTop" r="textAreaRight" b="textAreaBottom"/>
                <a:pathLst>
                  <a:path w="21600" h="26214">
                    <a:moveTo>
                      <a:pt x="1194" y="0"/>
                    </a:moveTo>
                    <a:arcTo wR="1194" hR="1194" stAng="16200000" swAng="-5400000"/>
                    <a:lnTo>
                      <a:pt x="0" y="25020"/>
                    </a:lnTo>
                    <a:arcTo wR="1194" hR="1194" stAng="10800000" swAng="-5400000"/>
                    <a:lnTo>
                      <a:pt x="20406" y="26214"/>
                    </a:lnTo>
                    <a:arcTo wR="1194" hR="1194" stAng="5400000" swAng="-5400000"/>
                    <a:lnTo>
                      <a:pt x="21600" y="1194"/>
                    </a:lnTo>
                    <a:arcTo wR="1194" hR="119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d9d9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文本框 18"/>
              <p:cNvSpPr/>
              <p:nvPr/>
            </p:nvSpPr>
            <p:spPr>
              <a:xfrm>
                <a:off x="469800" y="2963160"/>
                <a:ext cx="245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2e6697"/>
                    </a:solidFill>
                    <a:latin typeface="微软雅黑"/>
                    <a:ea typeface="微软雅黑"/>
                  </a:rPr>
                  <a:t>安全性要求高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直接连接符 27"/>
              <p:cNvSpPr/>
              <p:nvPr/>
            </p:nvSpPr>
            <p:spPr>
              <a:xfrm>
                <a:off x="735480" y="3472560"/>
                <a:ext cx="1938240" cy="0"/>
              </a:xfrm>
              <a:prstGeom prst="line">
                <a:avLst/>
              </a:prstGeom>
              <a:ln w="6480">
                <a:solidFill>
                  <a:srgbClr val="2e669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5" name="文本框 31"/>
              <p:cNvSpPr/>
              <p:nvPr/>
            </p:nvSpPr>
            <p:spPr>
              <a:xfrm>
                <a:off x="825120" y="3611880"/>
                <a:ext cx="18079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城市轨道交通地下部分隧道空间小，行车密度大，故障排除难度大，若发生事故难以救援，损失将非常严重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86" name="组合 15"/>
            <p:cNvGrpSpPr/>
            <p:nvPr/>
          </p:nvGrpSpPr>
          <p:grpSpPr>
            <a:xfrm>
              <a:off x="2633040" y="3682080"/>
              <a:ext cx="2570040" cy="3528360"/>
              <a:chOff x="2633040" y="3682080"/>
              <a:chExt cx="2570040" cy="3528360"/>
            </a:xfrm>
          </p:grpSpPr>
          <p:sp>
            <p:nvSpPr>
              <p:cNvPr id="787" name="圆角矩形 4"/>
              <p:cNvSpPr/>
              <p:nvPr/>
            </p:nvSpPr>
            <p:spPr>
              <a:xfrm>
                <a:off x="2633040" y="3682080"/>
                <a:ext cx="2568600" cy="3528360"/>
              </a:xfrm>
              <a:custGeom>
                <a:avLst/>
                <a:gdLst>
                  <a:gd name="textAreaLeft" fmla="*/ 41400 w 2568600"/>
                  <a:gd name="textAreaRight" fmla="*/ 2527200 w 2568600"/>
                  <a:gd name="textAreaTop" fmla="*/ 41400 h 3528360"/>
                  <a:gd name="textAreaBottom" fmla="*/ 3486960 h 3528360"/>
                </a:gdLst>
                <a:ahLst/>
                <a:rect l="textAreaLeft" t="textAreaTop" r="textAreaRight" b="textAreaBottom"/>
                <a:pathLst>
                  <a:path w="21600" h="29670">
                    <a:moveTo>
                      <a:pt x="1194" y="0"/>
                    </a:moveTo>
                    <a:arcTo wR="1194" hR="1194" stAng="16200000" swAng="-5400000"/>
                    <a:lnTo>
                      <a:pt x="0" y="28476"/>
                    </a:lnTo>
                    <a:arcTo wR="1194" hR="1194" stAng="10800000" swAng="-5400000"/>
                    <a:lnTo>
                      <a:pt x="20406" y="29670"/>
                    </a:lnTo>
                    <a:arcTo wR="1194" hR="1194" stAng="5400000" swAng="-5400000"/>
                    <a:lnTo>
                      <a:pt x="21600" y="1194"/>
                    </a:lnTo>
                    <a:arcTo wR="1194" hR="119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d9d9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文本框 18"/>
              <p:cNvSpPr/>
              <p:nvPr/>
            </p:nvSpPr>
            <p:spPr>
              <a:xfrm>
                <a:off x="2633040" y="3724560"/>
                <a:ext cx="257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2e6697"/>
                    </a:solidFill>
                    <a:latin typeface="微软雅黑"/>
                    <a:ea typeface="微软雅黑"/>
                  </a:rPr>
                  <a:t>通过能力大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直接连接符 27"/>
              <p:cNvSpPr/>
              <p:nvPr/>
            </p:nvSpPr>
            <p:spPr>
              <a:xfrm>
                <a:off x="2911320" y="4229280"/>
                <a:ext cx="2027880" cy="0"/>
              </a:xfrm>
              <a:prstGeom prst="line">
                <a:avLst/>
              </a:prstGeom>
              <a:ln w="6480">
                <a:solidFill>
                  <a:srgbClr val="2e669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文本框 31"/>
              <p:cNvSpPr/>
              <p:nvPr/>
            </p:nvSpPr>
            <p:spPr>
              <a:xfrm>
                <a:off x="2970000" y="4365000"/>
                <a:ext cx="1891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不设站线，进站列车均停在正线上，先行列车停站时间直接影响后续列车接近车站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1" name="组合 16"/>
            <p:cNvGrpSpPr/>
            <p:nvPr/>
          </p:nvGrpSpPr>
          <p:grpSpPr>
            <a:xfrm>
              <a:off x="4896000" y="2966400"/>
              <a:ext cx="2469240" cy="2979720"/>
              <a:chOff x="4896000" y="2966400"/>
              <a:chExt cx="2469240" cy="2979720"/>
            </a:xfrm>
          </p:grpSpPr>
          <p:sp>
            <p:nvSpPr>
              <p:cNvPr id="792" name="圆角矩形 4"/>
              <p:cNvSpPr/>
              <p:nvPr/>
            </p:nvSpPr>
            <p:spPr>
              <a:xfrm>
                <a:off x="4896000" y="2966400"/>
                <a:ext cx="2454840" cy="2979720"/>
              </a:xfrm>
              <a:custGeom>
                <a:avLst/>
                <a:gdLst>
                  <a:gd name="textAreaLeft" fmla="*/ 39600 w 2454840"/>
                  <a:gd name="textAreaRight" fmla="*/ 2415240 w 2454840"/>
                  <a:gd name="textAreaTop" fmla="*/ 39600 h 2979720"/>
                  <a:gd name="textAreaBottom" fmla="*/ 2940120 h 2979720"/>
                </a:gdLst>
                <a:ahLst/>
                <a:rect l="textAreaLeft" t="textAreaTop" r="textAreaRight" b="textAreaBottom"/>
                <a:pathLst>
                  <a:path w="21600" h="26218">
                    <a:moveTo>
                      <a:pt x="1194" y="0"/>
                    </a:moveTo>
                    <a:arcTo wR="1194" hR="1194" stAng="16200000" swAng="-5400000"/>
                    <a:lnTo>
                      <a:pt x="0" y="25024"/>
                    </a:lnTo>
                    <a:arcTo wR="1194" hR="1194" stAng="10800000" swAng="-5400000"/>
                    <a:lnTo>
                      <a:pt x="20406" y="26218"/>
                    </a:lnTo>
                    <a:arcTo wR="1194" hR="1194" stAng="5400000" swAng="-5400000"/>
                    <a:lnTo>
                      <a:pt x="21600" y="1194"/>
                    </a:lnTo>
                    <a:arcTo wR="1194" hR="119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d9d9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文本框 28"/>
              <p:cNvSpPr/>
              <p:nvPr/>
            </p:nvSpPr>
            <p:spPr>
              <a:xfrm>
                <a:off x="4908960" y="3349440"/>
                <a:ext cx="245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2e6697"/>
                    </a:solidFill>
                    <a:latin typeface="微软雅黑"/>
                    <a:ea typeface="微软雅黑"/>
                  </a:rPr>
                  <a:t>可靠性高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直接连接符 27"/>
              <p:cNvSpPr/>
              <p:nvPr/>
            </p:nvSpPr>
            <p:spPr>
              <a:xfrm>
                <a:off x="5175000" y="3858480"/>
                <a:ext cx="1938240" cy="0"/>
              </a:xfrm>
              <a:prstGeom prst="line">
                <a:avLst/>
              </a:prstGeom>
              <a:ln w="6480">
                <a:solidFill>
                  <a:srgbClr val="2e669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5" name="文本框 31"/>
              <p:cNvSpPr/>
              <p:nvPr/>
            </p:nvSpPr>
            <p:spPr>
              <a:xfrm>
                <a:off x="5275800" y="4001040"/>
                <a:ext cx="1807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城市轨道交通隧道净空小，且装有带电的接触轨或接触网，行车时不便维修和排除设备故障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6" name="组合 17"/>
            <p:cNvGrpSpPr/>
            <p:nvPr/>
          </p:nvGrpSpPr>
          <p:grpSpPr>
            <a:xfrm>
              <a:off x="7229160" y="4179600"/>
              <a:ext cx="2469240" cy="2979720"/>
              <a:chOff x="7229160" y="4179600"/>
              <a:chExt cx="2469240" cy="2979720"/>
            </a:xfrm>
          </p:grpSpPr>
          <p:sp>
            <p:nvSpPr>
              <p:cNvPr id="797" name="圆角矩形 4"/>
              <p:cNvSpPr/>
              <p:nvPr/>
            </p:nvSpPr>
            <p:spPr>
              <a:xfrm>
                <a:off x="7229160" y="4179600"/>
                <a:ext cx="2454840" cy="2979720"/>
              </a:xfrm>
              <a:custGeom>
                <a:avLst/>
                <a:gdLst>
                  <a:gd name="textAreaLeft" fmla="*/ 39600 w 2454840"/>
                  <a:gd name="textAreaRight" fmla="*/ 2415240 w 2454840"/>
                  <a:gd name="textAreaTop" fmla="*/ 39600 h 2979720"/>
                  <a:gd name="textAreaBottom" fmla="*/ 2940120 h 2979720"/>
                </a:gdLst>
                <a:ahLst/>
                <a:rect l="textAreaLeft" t="textAreaTop" r="textAreaRight" b="textAreaBottom"/>
                <a:pathLst>
                  <a:path w="21600" h="26218">
                    <a:moveTo>
                      <a:pt x="1194" y="0"/>
                    </a:moveTo>
                    <a:arcTo wR="1194" hR="1194" stAng="16200000" swAng="-5400000"/>
                    <a:lnTo>
                      <a:pt x="0" y="25024"/>
                    </a:lnTo>
                    <a:arcTo wR="1194" hR="1194" stAng="10800000" swAng="-5400000"/>
                    <a:lnTo>
                      <a:pt x="20406" y="26218"/>
                    </a:lnTo>
                    <a:arcTo wR="1194" hR="1194" stAng="5400000" swAng="-5400000"/>
                    <a:lnTo>
                      <a:pt x="21600" y="1194"/>
                    </a:lnTo>
                    <a:arcTo wR="1194" hR="119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d9d9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文本框 24"/>
              <p:cNvSpPr/>
              <p:nvPr/>
            </p:nvSpPr>
            <p:spPr>
              <a:xfrm>
                <a:off x="7242120" y="4562640"/>
                <a:ext cx="245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2e6697"/>
                    </a:solidFill>
                    <a:latin typeface="微软雅黑"/>
                    <a:ea typeface="微软雅黑"/>
                  </a:rPr>
                  <a:t>自动化程度高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直接连接符 27"/>
              <p:cNvSpPr/>
              <p:nvPr/>
            </p:nvSpPr>
            <p:spPr>
              <a:xfrm>
                <a:off x="7508160" y="5071680"/>
                <a:ext cx="1938240" cy="0"/>
              </a:xfrm>
              <a:prstGeom prst="line">
                <a:avLst/>
              </a:prstGeom>
              <a:ln w="6480">
                <a:solidFill>
                  <a:srgbClr val="2e669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文本框 31"/>
              <p:cNvSpPr/>
              <p:nvPr/>
            </p:nvSpPr>
            <p:spPr>
              <a:xfrm>
                <a:off x="7552440" y="5299920"/>
                <a:ext cx="1807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采用自动化程度高的先进技术设备，以减少工作人员，并减轻他们的劳动强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1" name="组合 18"/>
            <p:cNvGrpSpPr/>
            <p:nvPr/>
          </p:nvGrpSpPr>
          <p:grpSpPr>
            <a:xfrm>
              <a:off x="9446400" y="3072600"/>
              <a:ext cx="2558160" cy="3502080"/>
              <a:chOff x="9446400" y="3072600"/>
              <a:chExt cx="2558160" cy="3502080"/>
            </a:xfrm>
          </p:grpSpPr>
          <p:sp>
            <p:nvSpPr>
              <p:cNvPr id="802" name="圆角矩形 4"/>
              <p:cNvSpPr/>
              <p:nvPr/>
            </p:nvSpPr>
            <p:spPr>
              <a:xfrm>
                <a:off x="9446400" y="3072600"/>
                <a:ext cx="2543400" cy="3502080"/>
              </a:xfrm>
              <a:custGeom>
                <a:avLst/>
                <a:gdLst>
                  <a:gd name="textAreaLeft" fmla="*/ 41040 w 2543400"/>
                  <a:gd name="textAreaRight" fmla="*/ 2502360 w 2543400"/>
                  <a:gd name="textAreaTop" fmla="*/ 41040 h 3502080"/>
                  <a:gd name="textAreaBottom" fmla="*/ 3461040 h 3502080"/>
                </a:gdLst>
                <a:ahLst/>
                <a:rect l="textAreaLeft" t="textAreaTop" r="textAreaRight" b="textAreaBottom"/>
                <a:pathLst>
                  <a:path w="21600" h="29741">
                    <a:moveTo>
                      <a:pt x="1194" y="0"/>
                    </a:moveTo>
                    <a:arcTo wR="1194" hR="1194" stAng="16200000" swAng="-5400000"/>
                    <a:lnTo>
                      <a:pt x="0" y="28547"/>
                    </a:lnTo>
                    <a:arcTo wR="1194" hR="1194" stAng="10800000" swAng="-5400000"/>
                    <a:lnTo>
                      <a:pt x="20406" y="29741"/>
                    </a:lnTo>
                    <a:arcTo wR="1194" hR="1194" stAng="5400000" swAng="-5400000"/>
                    <a:lnTo>
                      <a:pt x="21600" y="1194"/>
                    </a:lnTo>
                    <a:arcTo wR="1194" hR="119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d9d9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文本框 20"/>
              <p:cNvSpPr/>
              <p:nvPr/>
            </p:nvSpPr>
            <p:spPr>
              <a:xfrm>
                <a:off x="9459720" y="3255120"/>
                <a:ext cx="254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2e6697"/>
                    </a:solidFill>
                    <a:latin typeface="微软雅黑"/>
                    <a:ea typeface="微软雅黑"/>
                  </a:rPr>
                  <a:t>限界条件苛刻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直接连接符 27"/>
              <p:cNvSpPr/>
              <p:nvPr/>
            </p:nvSpPr>
            <p:spPr>
              <a:xfrm>
                <a:off x="9735480" y="3769560"/>
                <a:ext cx="2007720" cy="0"/>
              </a:xfrm>
              <a:prstGeom prst="line">
                <a:avLst/>
              </a:prstGeom>
              <a:ln w="6480">
                <a:solidFill>
                  <a:srgbClr val="2e669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文本框 31"/>
              <p:cNvSpPr/>
              <p:nvPr/>
            </p:nvSpPr>
            <p:spPr>
              <a:xfrm>
                <a:off x="9784440" y="3980880"/>
                <a:ext cx="1870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室外设备及车载设备，受土建限界的制约，要求设备体积小，同时必须兼顾施工和维护作业空间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06" name="Rectangle 1"/>
          <p:cNvSpPr/>
          <p:nvPr/>
        </p:nvSpPr>
        <p:spPr>
          <a:xfrm>
            <a:off x="4006080" y="-130320"/>
            <a:ext cx="4179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城市轨道交通隧道净空小，且装有带电的接触轨或接触网，行车时不便维修和排除设备故障</a:t>
            </a: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文本框 3"/>
          <p:cNvSpPr/>
          <p:nvPr/>
        </p:nvSpPr>
        <p:spPr>
          <a:xfrm>
            <a:off x="1476360" y="4083120"/>
            <a:ext cx="103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城市轨道交通系统的行车组织特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8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809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1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直接连接符 22"/>
          <p:cNvSpPr/>
          <p:nvPr/>
        </p:nvSpPr>
        <p:spPr>
          <a:xfrm>
            <a:off x="1496880" y="2292480"/>
            <a:ext cx="9137880" cy="5544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矩形 48"/>
          <p:cNvSpPr/>
          <p:nvPr/>
        </p:nvSpPr>
        <p:spPr>
          <a:xfrm>
            <a:off x="1382760" y="1584360"/>
            <a:ext cx="906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城市轨道交通对行车组织工作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要求，决定了城市轨道交通行车组织工作必须具备以下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特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3" name="组合 14"/>
          <p:cNvGrpSpPr/>
          <p:nvPr/>
        </p:nvGrpSpPr>
        <p:grpSpPr>
          <a:xfrm>
            <a:off x="469800" y="2540160"/>
            <a:ext cx="2455920" cy="3849480"/>
            <a:chOff x="469800" y="2540160"/>
            <a:chExt cx="2455920" cy="3849480"/>
          </a:xfrm>
        </p:grpSpPr>
        <p:sp>
          <p:nvSpPr>
            <p:cNvPr id="824" name="圆角矩形 4"/>
            <p:cNvSpPr/>
            <p:nvPr/>
          </p:nvSpPr>
          <p:spPr>
            <a:xfrm>
              <a:off x="469800" y="2540160"/>
              <a:ext cx="2454840" cy="3849480"/>
            </a:xfrm>
            <a:custGeom>
              <a:avLst/>
              <a:gdLst>
                <a:gd name="textAreaLeft" fmla="*/ 39600 w 2454840"/>
                <a:gd name="textAreaRight" fmla="*/ 2415240 w 2454840"/>
                <a:gd name="textAreaTop" fmla="*/ 39600 h 3849480"/>
                <a:gd name="textAreaBottom" fmla="*/ 3809880 h 3849480"/>
              </a:gdLst>
              <a:ahLst/>
              <a:rect l="textAreaLeft" t="textAreaTop" r="textAreaRight" b="textAreaBottom"/>
              <a:pathLst>
                <a:path w="21600" h="33870">
                  <a:moveTo>
                    <a:pt x="1194" y="0"/>
                  </a:moveTo>
                  <a:arcTo wR="1194" hR="1194" stAng="16200000" swAng="-5400000"/>
                  <a:lnTo>
                    <a:pt x="0" y="32676"/>
                  </a:lnTo>
                  <a:arcTo wR="1194" hR="1194" stAng="10800000" swAng="-5400000"/>
                  <a:lnTo>
                    <a:pt x="20406" y="33870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文本框 18"/>
            <p:cNvSpPr/>
            <p:nvPr/>
          </p:nvSpPr>
          <p:spPr>
            <a:xfrm>
              <a:off x="469800" y="2575800"/>
              <a:ext cx="245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有完善的列车速度监控功能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直接连接符 27"/>
            <p:cNvSpPr/>
            <p:nvPr/>
          </p:nvSpPr>
          <p:spPr>
            <a:xfrm>
              <a:off x="735480" y="3408840"/>
              <a:ext cx="1937880" cy="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文本框 31"/>
            <p:cNvSpPr/>
            <p:nvPr/>
          </p:nvSpPr>
          <p:spPr>
            <a:xfrm>
              <a:off x="795240" y="3668400"/>
              <a:ext cx="180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所承担的客运量巨大，对行车间隔的要求远高于铁路，最小行车间隔达到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0s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甚至更小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8" name="组合 15"/>
          <p:cNvGrpSpPr/>
          <p:nvPr/>
        </p:nvGrpSpPr>
        <p:grpSpPr>
          <a:xfrm>
            <a:off x="2631960" y="3294000"/>
            <a:ext cx="2571840" cy="3527640"/>
            <a:chOff x="2631960" y="3294000"/>
            <a:chExt cx="2571840" cy="3527640"/>
          </a:xfrm>
        </p:grpSpPr>
        <p:sp>
          <p:nvSpPr>
            <p:cNvPr id="829" name="圆角矩形 4"/>
            <p:cNvSpPr/>
            <p:nvPr/>
          </p:nvSpPr>
          <p:spPr>
            <a:xfrm>
              <a:off x="2631960" y="3294000"/>
              <a:ext cx="2570400" cy="3527640"/>
            </a:xfrm>
            <a:custGeom>
              <a:avLst/>
              <a:gdLst>
                <a:gd name="textAreaLeft" fmla="*/ 41400 w 2570400"/>
                <a:gd name="textAreaRight" fmla="*/ 2529000 w 2570400"/>
                <a:gd name="textAreaTop" fmla="*/ 41400 h 3527640"/>
                <a:gd name="textAreaBottom" fmla="*/ 3486240 h 3527640"/>
              </a:gdLst>
              <a:ahLst/>
              <a:rect l="textAreaLeft" t="textAreaTop" r="textAreaRight" b="textAreaBottom"/>
              <a:pathLst>
                <a:path w="21600" h="29643">
                  <a:moveTo>
                    <a:pt x="1194" y="0"/>
                  </a:moveTo>
                  <a:arcTo wR="1194" hR="1194" stAng="16200000" swAng="-5400000"/>
                  <a:lnTo>
                    <a:pt x="0" y="28449"/>
                  </a:lnTo>
                  <a:arcTo wR="1194" hR="1194" stAng="10800000" swAng="-5400000"/>
                  <a:lnTo>
                    <a:pt x="20406" y="29643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文本框 18"/>
            <p:cNvSpPr/>
            <p:nvPr/>
          </p:nvSpPr>
          <p:spPr>
            <a:xfrm>
              <a:off x="2631960" y="3336480"/>
              <a:ext cx="257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联锁关系较简单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直接连接符 27"/>
            <p:cNvSpPr/>
            <p:nvPr/>
          </p:nvSpPr>
          <p:spPr>
            <a:xfrm>
              <a:off x="2910240" y="3840840"/>
              <a:ext cx="2029320" cy="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文本框 31"/>
            <p:cNvSpPr/>
            <p:nvPr/>
          </p:nvSpPr>
          <p:spPr>
            <a:xfrm>
              <a:off x="2968920" y="3976920"/>
              <a:ext cx="189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联锁设备的监控对象少，除折返站外全部作业均为乘客乘降，非常简单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3" name="组合 16"/>
          <p:cNvGrpSpPr/>
          <p:nvPr/>
        </p:nvGrpSpPr>
        <p:grpSpPr>
          <a:xfrm>
            <a:off x="4896000" y="2579760"/>
            <a:ext cx="2469960" cy="2977920"/>
            <a:chOff x="4896000" y="2579760"/>
            <a:chExt cx="2469960" cy="2977920"/>
          </a:xfrm>
        </p:grpSpPr>
        <p:sp>
          <p:nvSpPr>
            <p:cNvPr id="834" name="圆角矩形 4"/>
            <p:cNvSpPr/>
            <p:nvPr/>
          </p:nvSpPr>
          <p:spPr>
            <a:xfrm>
              <a:off x="4896000" y="2579760"/>
              <a:ext cx="2455560" cy="2977920"/>
            </a:xfrm>
            <a:custGeom>
              <a:avLst/>
              <a:gdLst>
                <a:gd name="textAreaLeft" fmla="*/ 39600 w 2455560"/>
                <a:gd name="textAreaRight" fmla="*/ 2415960 w 2455560"/>
                <a:gd name="textAreaTop" fmla="*/ 39600 h 2977920"/>
                <a:gd name="textAreaBottom" fmla="*/ 2938320 h 2977920"/>
              </a:gdLst>
              <a:ahLst/>
              <a:rect l="textAreaLeft" t="textAreaTop" r="textAreaRight" b="textAreaBottom"/>
              <a:pathLst>
                <a:path w="21600" h="26194">
                  <a:moveTo>
                    <a:pt x="1194" y="0"/>
                  </a:moveTo>
                  <a:arcTo wR="1194" hR="1194" stAng="16200000" swAng="-5400000"/>
                  <a:lnTo>
                    <a:pt x="0" y="25000"/>
                  </a:lnTo>
                  <a:arcTo wR="1194" hR="1194" stAng="10800000" swAng="-5400000"/>
                  <a:lnTo>
                    <a:pt x="20406" y="26194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文本框 28"/>
            <p:cNvSpPr/>
            <p:nvPr/>
          </p:nvSpPr>
          <p:spPr>
            <a:xfrm>
              <a:off x="4908960" y="2962440"/>
              <a:ext cx="24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联锁技术要求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直接连接符 27"/>
            <p:cNvSpPr/>
            <p:nvPr/>
          </p:nvSpPr>
          <p:spPr>
            <a:xfrm>
              <a:off x="5175000" y="3471480"/>
              <a:ext cx="1938600" cy="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文本框 31"/>
            <p:cNvSpPr/>
            <p:nvPr/>
          </p:nvSpPr>
          <p:spPr>
            <a:xfrm>
              <a:off x="5275800" y="3614040"/>
              <a:ext cx="180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把联锁关系和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ATP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编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发码功能结合在一起，且包含一些特殊的功能，如扣车、自动折返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8" name="组合 17"/>
          <p:cNvGrpSpPr/>
          <p:nvPr/>
        </p:nvGrpSpPr>
        <p:grpSpPr>
          <a:xfrm>
            <a:off x="7184880" y="3192480"/>
            <a:ext cx="2470320" cy="3665520"/>
            <a:chOff x="7184880" y="3192480"/>
            <a:chExt cx="2470320" cy="3665520"/>
          </a:xfrm>
        </p:grpSpPr>
        <p:sp>
          <p:nvSpPr>
            <p:cNvPr id="839" name="圆角矩形 4"/>
            <p:cNvSpPr/>
            <p:nvPr/>
          </p:nvSpPr>
          <p:spPr>
            <a:xfrm>
              <a:off x="7199640" y="3192480"/>
              <a:ext cx="2455560" cy="3665520"/>
            </a:xfrm>
            <a:custGeom>
              <a:avLst/>
              <a:gdLst>
                <a:gd name="textAreaLeft" fmla="*/ 39600 w 2455560"/>
                <a:gd name="textAreaRight" fmla="*/ 2415960 w 2455560"/>
                <a:gd name="textAreaTop" fmla="*/ 39600 h 3665520"/>
                <a:gd name="textAreaBottom" fmla="*/ 3625920 h 3665520"/>
              </a:gdLst>
              <a:ahLst/>
              <a:rect l="textAreaLeft" t="textAreaTop" r="textAreaRight" b="textAreaBottom"/>
              <a:pathLst>
                <a:path w="21600" h="32242">
                  <a:moveTo>
                    <a:pt x="1194" y="0"/>
                  </a:moveTo>
                  <a:arcTo wR="1194" hR="1194" stAng="16200000" swAng="-5400000"/>
                  <a:lnTo>
                    <a:pt x="0" y="31048"/>
                  </a:lnTo>
                  <a:arcTo wR="1194" hR="1194" stAng="10800000" swAng="-5400000"/>
                  <a:lnTo>
                    <a:pt x="20406" y="32242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文本框 24"/>
            <p:cNvSpPr/>
            <p:nvPr/>
          </p:nvSpPr>
          <p:spPr>
            <a:xfrm>
              <a:off x="7184880" y="3389400"/>
              <a:ext cx="245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车辆段独立采用联锁设备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直接连接符 27"/>
            <p:cNvSpPr/>
            <p:nvPr/>
          </p:nvSpPr>
          <p:spPr>
            <a:xfrm>
              <a:off x="7479000" y="4084560"/>
              <a:ext cx="1938600" cy="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文本框 31"/>
            <p:cNvSpPr/>
            <p:nvPr/>
          </p:nvSpPr>
          <p:spPr>
            <a:xfrm>
              <a:off x="7523280" y="4177440"/>
              <a:ext cx="180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车辆段类似于铁路区段站的功能，包括列车编解、接发列车和频繁的调车作业，线路较多，道岔较多，信号设备较多，一般独立采用一套联锁设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3" name="组合 18"/>
          <p:cNvGrpSpPr/>
          <p:nvPr/>
        </p:nvGrpSpPr>
        <p:grpSpPr>
          <a:xfrm>
            <a:off x="9445680" y="2685960"/>
            <a:ext cx="2544840" cy="3500640"/>
            <a:chOff x="9445680" y="2685960"/>
            <a:chExt cx="2544840" cy="3500640"/>
          </a:xfrm>
        </p:grpSpPr>
        <p:sp>
          <p:nvSpPr>
            <p:cNvPr id="844" name="圆角矩形 4"/>
            <p:cNvSpPr/>
            <p:nvPr/>
          </p:nvSpPr>
          <p:spPr>
            <a:xfrm>
              <a:off x="9446760" y="2685960"/>
              <a:ext cx="2543760" cy="3500640"/>
            </a:xfrm>
            <a:custGeom>
              <a:avLst/>
              <a:gdLst>
                <a:gd name="textAreaLeft" fmla="*/ 41040 w 2543760"/>
                <a:gd name="textAreaRight" fmla="*/ 2502720 w 2543760"/>
                <a:gd name="textAreaTop" fmla="*/ 41040 h 3500640"/>
                <a:gd name="textAreaBottom" fmla="*/ 3459600 h 3500640"/>
              </a:gdLst>
              <a:ahLst/>
              <a:rect l="textAreaLeft" t="textAreaTop" r="textAreaRight" b="textAreaBottom"/>
              <a:pathLst>
                <a:path w="21600" h="29724">
                  <a:moveTo>
                    <a:pt x="1194" y="0"/>
                  </a:moveTo>
                  <a:arcTo wR="1194" hR="1194" stAng="16200000" swAng="-5400000"/>
                  <a:lnTo>
                    <a:pt x="0" y="28530"/>
                  </a:lnTo>
                  <a:arcTo wR="1194" hR="1194" stAng="10800000" swAng="-5400000"/>
                  <a:lnTo>
                    <a:pt x="20406" y="29724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文本框 20"/>
            <p:cNvSpPr/>
            <p:nvPr/>
          </p:nvSpPr>
          <p:spPr>
            <a:xfrm>
              <a:off x="9445680" y="2770560"/>
              <a:ext cx="2544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行车调度自动化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水平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直接连接符 27"/>
            <p:cNvSpPr/>
            <p:nvPr/>
          </p:nvSpPr>
          <p:spPr>
            <a:xfrm>
              <a:off x="9736200" y="3424680"/>
              <a:ext cx="2008080" cy="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文本框 31"/>
            <p:cNvSpPr/>
            <p:nvPr/>
          </p:nvSpPr>
          <p:spPr>
            <a:xfrm>
              <a:off x="9785160" y="3593880"/>
              <a:ext cx="187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调度系统中通常包含自动排列进路和运行自动调整的功能，自动化强度高，人工介入极少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8" name="Rectangle 1"/>
          <p:cNvSpPr/>
          <p:nvPr/>
        </p:nvSpPr>
        <p:spPr>
          <a:xfrm>
            <a:off x="4006080" y="-130320"/>
            <a:ext cx="4179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城市轨道交通隧道净空小，且装有带电的接触轨或接触网，行车时不便维修和排除设备故障</a:t>
            </a: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文本框 3"/>
          <p:cNvSpPr/>
          <p:nvPr/>
        </p:nvSpPr>
        <p:spPr>
          <a:xfrm>
            <a:off x="2138400" y="4083120"/>
            <a:ext cx="91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识城市轨道交通的主要行车人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0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851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3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矩形 19"/>
          <p:cNvSpPr/>
          <p:nvPr/>
        </p:nvSpPr>
        <p:spPr>
          <a:xfrm>
            <a:off x="1382760" y="78912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行车组织机构及组织原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直接连接符 22"/>
          <p:cNvSpPr/>
          <p:nvPr/>
        </p:nvSpPr>
        <p:spPr>
          <a:xfrm>
            <a:off x="1308240" y="1473120"/>
            <a:ext cx="10410840" cy="3348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矩形 48"/>
          <p:cNvSpPr/>
          <p:nvPr/>
        </p:nvSpPr>
        <p:spPr>
          <a:xfrm>
            <a:off x="1028880" y="2133720"/>
            <a:ext cx="4120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车调度工作采用“高度集中、统一指挥、逐级负责”的原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车组织工作由行车调度员、车站值班站长、客车司机、车辆段调度员完成，实行“行车调度员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司机”二级管理，车站值班站长、车辆段调度员辅助行车工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5-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Rectangle 34"/>
          <p:cNvSpPr/>
          <p:nvPr/>
        </p:nvSpPr>
        <p:spPr>
          <a:xfrm>
            <a:off x="152280" y="15228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7" name="Group 1"/>
          <p:cNvGrpSpPr/>
          <p:nvPr/>
        </p:nvGrpSpPr>
        <p:grpSpPr>
          <a:xfrm>
            <a:off x="5850000" y="1811160"/>
            <a:ext cx="4718160" cy="3854520"/>
            <a:chOff x="5850000" y="1811160"/>
            <a:chExt cx="4718160" cy="3854520"/>
          </a:xfrm>
        </p:grpSpPr>
        <p:sp>
          <p:nvSpPr>
            <p:cNvPr id="868" name="AutoShape 33"/>
            <p:cNvSpPr/>
            <p:nvPr/>
          </p:nvSpPr>
          <p:spPr>
            <a:xfrm>
              <a:off x="5850000" y="1811160"/>
              <a:ext cx="4718160" cy="38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7138440" y="1964160"/>
              <a:ext cx="1473120" cy="3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控制中心值班主任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Text Box 31"/>
            <p:cNvSpPr/>
            <p:nvPr/>
          </p:nvSpPr>
          <p:spPr>
            <a:xfrm>
              <a:off x="7459560" y="2603520"/>
              <a:ext cx="860760" cy="31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行车调度员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Text Box 30"/>
            <p:cNvSpPr/>
            <p:nvPr/>
          </p:nvSpPr>
          <p:spPr>
            <a:xfrm>
              <a:off x="6040080" y="3252600"/>
              <a:ext cx="978120" cy="31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车站值班站长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Text Box 29"/>
            <p:cNvSpPr/>
            <p:nvPr/>
          </p:nvSpPr>
          <p:spPr>
            <a:xfrm>
              <a:off x="8669880" y="3288600"/>
              <a:ext cx="1088280" cy="31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车辆段调度员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Text Box 28"/>
            <p:cNvSpPr/>
            <p:nvPr/>
          </p:nvSpPr>
          <p:spPr>
            <a:xfrm>
              <a:off x="7567920" y="3912840"/>
              <a:ext cx="692280" cy="31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派班员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Text Box 27"/>
            <p:cNvSpPr/>
            <p:nvPr/>
          </p:nvSpPr>
          <p:spPr>
            <a:xfrm>
              <a:off x="6109920" y="3912840"/>
              <a:ext cx="863640" cy="3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行车值班员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Text Box 26"/>
            <p:cNvSpPr/>
            <p:nvPr/>
          </p:nvSpPr>
          <p:spPr>
            <a:xfrm>
              <a:off x="8408880" y="3866760"/>
              <a:ext cx="1026360" cy="3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车辆检修调度员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Text Box 25"/>
            <p:cNvSpPr/>
            <p:nvPr/>
          </p:nvSpPr>
          <p:spPr>
            <a:xfrm>
              <a:off x="6194880" y="4584240"/>
              <a:ext cx="778680" cy="31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站务员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Text Box 24"/>
            <p:cNvSpPr/>
            <p:nvPr/>
          </p:nvSpPr>
          <p:spPr>
            <a:xfrm>
              <a:off x="7998480" y="5196960"/>
              <a:ext cx="819720" cy="31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客车司机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Text Box 23"/>
            <p:cNvSpPr/>
            <p:nvPr/>
          </p:nvSpPr>
          <p:spPr>
            <a:xfrm>
              <a:off x="7084440" y="4751640"/>
              <a:ext cx="750240" cy="31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车长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Text Box 22"/>
            <p:cNvSpPr/>
            <p:nvPr/>
          </p:nvSpPr>
          <p:spPr>
            <a:xfrm>
              <a:off x="9087480" y="5138280"/>
              <a:ext cx="1287720" cy="31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调车员 ， 调车司机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80" name="AutoShape 21"/>
            <p:cNvCxnSpPr/>
            <p:nvPr/>
          </p:nvCxnSpPr>
          <p:spPr>
            <a:xfrm>
              <a:off x="7875000" y="2280960"/>
              <a:ext cx="15480" cy="32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1" name="AutoShape 20"/>
            <p:cNvCxnSpPr/>
            <p:nvPr/>
          </p:nvCxnSpPr>
          <p:spPr>
            <a:xfrm>
              <a:off x="7890120" y="3079080"/>
              <a:ext cx="132444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2" name="AutoShape 19"/>
            <p:cNvCxnSpPr/>
            <p:nvPr/>
          </p:nvCxnSpPr>
          <p:spPr>
            <a:xfrm>
              <a:off x="9213120" y="3079440"/>
              <a:ext cx="108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3" name="AutoShape 18"/>
            <p:cNvCxnSpPr/>
            <p:nvPr/>
          </p:nvCxnSpPr>
          <p:spPr>
            <a:xfrm flipH="1">
              <a:off x="6540840" y="3078720"/>
              <a:ext cx="1334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4" name="AutoShape 17"/>
            <p:cNvCxnSpPr/>
            <p:nvPr/>
          </p:nvCxnSpPr>
          <p:spPr>
            <a:xfrm>
              <a:off x="6527160" y="3079080"/>
              <a:ext cx="1800" cy="17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5" name="AutoShape 16"/>
            <p:cNvCxnSpPr/>
            <p:nvPr/>
          </p:nvCxnSpPr>
          <p:spPr>
            <a:xfrm>
              <a:off x="6528960" y="3569760"/>
              <a:ext cx="136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6" name="AutoShape 15"/>
            <p:cNvCxnSpPr/>
            <p:nvPr/>
          </p:nvCxnSpPr>
          <p:spPr>
            <a:xfrm flipH="1">
              <a:off x="6531480" y="4230000"/>
              <a:ext cx="100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7" name="AutoShape 14"/>
            <p:cNvCxnSpPr/>
            <p:nvPr/>
          </p:nvCxnSpPr>
          <p:spPr>
            <a:xfrm flipH="1">
              <a:off x="9194040" y="3606480"/>
              <a:ext cx="20160" cy="26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8" name="AutoShape 13"/>
            <p:cNvCxnSpPr/>
            <p:nvPr/>
          </p:nvCxnSpPr>
          <p:spPr>
            <a:xfrm>
              <a:off x="7459200" y="5066640"/>
              <a:ext cx="6840" cy="31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89" name="Text Box 12"/>
            <p:cNvSpPr/>
            <p:nvPr/>
          </p:nvSpPr>
          <p:spPr>
            <a:xfrm>
              <a:off x="7032960" y="5195520"/>
              <a:ext cx="863640" cy="3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工程车司机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90" name="AutoShape 11"/>
            <p:cNvCxnSpPr/>
            <p:nvPr/>
          </p:nvCxnSpPr>
          <p:spPr>
            <a:xfrm flipH="1" rot="16200000">
              <a:off x="7676280" y="4464000"/>
              <a:ext cx="968040" cy="49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1" name="AutoShape 10"/>
            <p:cNvCxnSpPr/>
            <p:nvPr/>
          </p:nvCxnSpPr>
          <p:spPr>
            <a:xfrm>
              <a:off x="7890480" y="2920320"/>
              <a:ext cx="24480" cy="99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92" name="Text Box 9"/>
            <p:cNvSpPr/>
            <p:nvPr/>
          </p:nvSpPr>
          <p:spPr>
            <a:xfrm>
              <a:off x="9631800" y="3867120"/>
              <a:ext cx="781560" cy="31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信号楼值班员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93" name="AutoShape 8"/>
            <p:cNvCxnSpPr/>
            <p:nvPr/>
          </p:nvCxnSpPr>
          <p:spPr>
            <a:xfrm flipV="1">
              <a:off x="9214200" y="3726360"/>
              <a:ext cx="831600" cy="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4" name="AutoShape 7"/>
            <p:cNvCxnSpPr/>
            <p:nvPr/>
          </p:nvCxnSpPr>
          <p:spPr>
            <a:xfrm>
              <a:off x="10022040" y="3739320"/>
              <a:ext cx="1080" cy="127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5" name="AutoShape 6"/>
            <p:cNvCxnSpPr/>
            <p:nvPr/>
          </p:nvCxnSpPr>
          <p:spPr>
            <a:xfrm flipH="1" flipV="1">
              <a:off x="7896240" y="3726360"/>
              <a:ext cx="1317240" cy="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6" name="AutoShape 5"/>
            <p:cNvCxnSpPr/>
            <p:nvPr/>
          </p:nvCxnSpPr>
          <p:spPr>
            <a:xfrm>
              <a:off x="8921520" y="4183560"/>
              <a:ext cx="108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7" name="AutoShape 4"/>
            <p:cNvCxnSpPr/>
            <p:nvPr/>
          </p:nvCxnSpPr>
          <p:spPr>
            <a:xfrm flipV="1" rot="10800000">
              <a:off x="7458840" y="4704120"/>
              <a:ext cx="455400" cy="47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8" name="AutoShape 3"/>
            <p:cNvCxnSpPr/>
            <p:nvPr/>
          </p:nvCxnSpPr>
          <p:spPr>
            <a:xfrm>
              <a:off x="8566920" y="4704480"/>
              <a:ext cx="1164600" cy="43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9" name="AutoShape 2"/>
            <p:cNvCxnSpPr/>
            <p:nvPr/>
          </p:nvCxnSpPr>
          <p:spPr>
            <a:xfrm>
              <a:off x="8921520" y="4183560"/>
              <a:ext cx="1080" cy="52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矩形 19"/>
          <p:cNvSpPr/>
          <p:nvPr/>
        </p:nvSpPr>
        <p:spPr>
          <a:xfrm>
            <a:off x="1382760" y="78912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熟悉主要岗位工作人员的职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直接连接符 22"/>
          <p:cNvSpPr/>
          <p:nvPr/>
        </p:nvSpPr>
        <p:spPr>
          <a:xfrm>
            <a:off x="1042920" y="2865600"/>
            <a:ext cx="10410840" cy="3312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矩形 48"/>
          <p:cNvSpPr/>
          <p:nvPr/>
        </p:nvSpPr>
        <p:spPr>
          <a:xfrm>
            <a:off x="1042920" y="1351080"/>
            <a:ext cx="104252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车调度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车调度员是列车运行的组织者和指挥者，担负着指挥列车运行、贯彻，安全生产、实现列出运行图、完成运输计划的重要任务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5-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34"/>
          <p:cNvSpPr/>
          <p:nvPr/>
        </p:nvSpPr>
        <p:spPr>
          <a:xfrm>
            <a:off x="152280" y="15228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5" name="组合 39"/>
          <p:cNvGrpSpPr/>
          <p:nvPr/>
        </p:nvGrpSpPr>
        <p:grpSpPr>
          <a:xfrm>
            <a:off x="-4680" y="3008160"/>
            <a:ext cx="6475320" cy="3849840"/>
            <a:chOff x="-4680" y="3008160"/>
            <a:chExt cx="6475320" cy="3849840"/>
          </a:xfrm>
        </p:grpSpPr>
        <p:sp>
          <p:nvSpPr>
            <p:cNvPr id="906" name="圆角矩形 4"/>
            <p:cNvSpPr/>
            <p:nvPr/>
          </p:nvSpPr>
          <p:spPr>
            <a:xfrm>
              <a:off x="269640" y="3008160"/>
              <a:ext cx="6201000" cy="3849840"/>
            </a:xfrm>
            <a:prstGeom prst="roundRect">
              <a:avLst>
                <a:gd name="adj" fmla="val 5528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文本框 18"/>
            <p:cNvSpPr/>
            <p:nvPr/>
          </p:nvSpPr>
          <p:spPr>
            <a:xfrm>
              <a:off x="-4680" y="3129120"/>
              <a:ext cx="620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行车调度员的主要职责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直接连接符 27"/>
            <p:cNvSpPr/>
            <p:nvPr/>
          </p:nvSpPr>
          <p:spPr>
            <a:xfrm>
              <a:off x="922320" y="3623760"/>
              <a:ext cx="4895640" cy="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文本框 31"/>
            <p:cNvSpPr/>
            <p:nvPr/>
          </p:nvSpPr>
          <p:spPr>
            <a:xfrm>
              <a:off x="269640" y="3718080"/>
              <a:ext cx="60271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组织指挥各部门、各工种严格按照列车运行图的规定和要求行车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组织列车到发和途中运行、监控列车行车和设备运转状况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据客流变化，及时调整列车开行计划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列车晚点、运行秩序紊乱时，应通过自动或人工调度，尽快恢复按图行车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发生行车事故时，应按照规定立即向上级和有关部门报告，迅速采取救援措施，最，限度减少人员伤亡、降低事故损失、防止事故升级，及时恢复列车的正常运行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安排各种检修施工作业，组织施工列车开行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0" name="组合 44"/>
          <p:cNvGrpSpPr/>
          <p:nvPr/>
        </p:nvGrpSpPr>
        <p:grpSpPr>
          <a:xfrm>
            <a:off x="6470640" y="3008160"/>
            <a:ext cx="5191200" cy="3849840"/>
            <a:chOff x="6470640" y="3008160"/>
            <a:chExt cx="5191200" cy="3849840"/>
          </a:xfrm>
        </p:grpSpPr>
        <p:sp>
          <p:nvSpPr>
            <p:cNvPr id="911" name="圆角矩形 4"/>
            <p:cNvSpPr/>
            <p:nvPr/>
          </p:nvSpPr>
          <p:spPr>
            <a:xfrm>
              <a:off x="6690600" y="3008160"/>
              <a:ext cx="4971240" cy="3849840"/>
            </a:xfrm>
            <a:prstGeom prst="roundRect">
              <a:avLst>
                <a:gd name="adj" fmla="val 5528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文本框 18"/>
            <p:cNvSpPr/>
            <p:nvPr/>
          </p:nvSpPr>
          <p:spPr>
            <a:xfrm>
              <a:off x="6470640" y="3129120"/>
              <a:ext cx="497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行车调度员采用的运行调整方法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27"/>
            <p:cNvSpPr/>
            <p:nvPr/>
          </p:nvSpPr>
          <p:spPr>
            <a:xfrm>
              <a:off x="7213680" y="3623760"/>
              <a:ext cx="3924720" cy="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文本框 31"/>
            <p:cNvSpPr/>
            <p:nvPr/>
          </p:nvSpPr>
          <p:spPr>
            <a:xfrm>
              <a:off x="7135560" y="3800520"/>
              <a:ext cx="42282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始发站提前或推迟发出列车；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加开停运列车，备用列车替换或变更列车运行交路；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组织列车加速运行，恢复正点；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组织车站加速作业，压缩停站时间；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组织列车不停车通过某些车站；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组织列车在具备条件的中间站折返运行；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7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扣车；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8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调整列车运行时间间隔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矩形 19"/>
          <p:cNvSpPr/>
          <p:nvPr/>
        </p:nvSpPr>
        <p:spPr>
          <a:xfrm>
            <a:off x="1382760" y="78912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熟悉主要岗位工作人员的职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直接连接符 22"/>
          <p:cNvSpPr/>
          <p:nvPr/>
        </p:nvSpPr>
        <p:spPr>
          <a:xfrm>
            <a:off x="1042920" y="2865600"/>
            <a:ext cx="10410840" cy="3312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矩形 48"/>
          <p:cNvSpPr/>
          <p:nvPr/>
        </p:nvSpPr>
        <p:spPr>
          <a:xfrm>
            <a:off x="1042920" y="1351080"/>
            <a:ext cx="104252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站值班站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站行车组织工作主要是严格遵守城市轨道交通技术管理规程、车站行车工作细则等有关规定，按一定程序进行的一系列接发列车作业，由车站值班站长统一指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5-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Rectangle 34"/>
          <p:cNvSpPr/>
          <p:nvPr/>
        </p:nvSpPr>
        <p:spPr>
          <a:xfrm>
            <a:off x="152280" y="15228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矩形 1"/>
          <p:cNvSpPr/>
          <p:nvPr/>
        </p:nvSpPr>
        <p:spPr>
          <a:xfrm>
            <a:off x="944640" y="3301920"/>
            <a:ext cx="718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值班站长服从行车调度员的生产指挥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车站发生设备故障或紧急情况时担任事故处理主任，组织指挥现场人员按照应急处理预案的要求进行处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矩形 19"/>
          <p:cNvSpPr/>
          <p:nvPr/>
        </p:nvSpPr>
        <p:spPr>
          <a:xfrm>
            <a:off x="1382760" y="78912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熟悉主要岗位工作人员的职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直接连接符 22"/>
          <p:cNvSpPr/>
          <p:nvPr/>
        </p:nvSpPr>
        <p:spPr>
          <a:xfrm>
            <a:off x="1170000" y="3429000"/>
            <a:ext cx="10410840" cy="3168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矩形 48"/>
          <p:cNvSpPr/>
          <p:nvPr/>
        </p:nvSpPr>
        <p:spPr>
          <a:xfrm>
            <a:off x="1042920" y="1351080"/>
            <a:ext cx="1022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车值班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车值班员主要负责车站的行车工作，包括监控列车运行情况，管理行车备品，监控车站各类设备运行状态，进行施工管理，接收、传达和执行调度命令，将各类信息向相关部门汇报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5-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Rectangle 34"/>
          <p:cNvSpPr/>
          <p:nvPr/>
        </p:nvSpPr>
        <p:spPr>
          <a:xfrm>
            <a:off x="152280" y="15228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文本框 3"/>
          <p:cNvSpPr/>
          <p:nvPr/>
        </p:nvSpPr>
        <p:spPr>
          <a:xfrm>
            <a:off x="3870360" y="4079880"/>
            <a:ext cx="54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识城市轨道交通系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560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0" y="990600"/>
                </a:moveTo>
                <a:cubicBezTo>
                  <a:pt x="0" y="543541"/>
                  <a:pt x="299439" y="151883"/>
                  <a:pt x="730856" y="34660"/>
                </a:cubicBezTo>
                <a:cubicBezTo>
                  <a:pt x="1162272" y="-82563"/>
                  <a:pt x="1618743" y="103703"/>
                  <a:pt x="1844986" y="489288"/>
                </a:cubicBezTo>
                <a:cubicBezTo>
                  <a:pt x="2071229" y="874873"/>
                  <a:pt x="2011171" y="1364213"/>
                  <a:pt x="1698400" y="1683643"/>
                </a:cubicBezTo>
                <a:cubicBezTo>
                  <a:pt x="1385629" y="2003073"/>
                  <a:pt x="897663" y="2073426"/>
                  <a:pt x="507398" y="1855357"/>
                </a:cubicBezTo>
                <a:lnTo>
                  <a:pt x="524165" y="1825349"/>
                </a:lnTo>
                <a:cubicBezTo>
                  <a:pt x="900888" y="2035852"/>
                  <a:pt x="1371921" y="1967940"/>
                  <a:pt x="1673839" y="1659594"/>
                </a:cubicBezTo>
                <a:cubicBezTo>
                  <a:pt x="1975757" y="1351248"/>
                  <a:pt x="2033730" y="878888"/>
                  <a:pt x="1815339" y="506683"/>
                </a:cubicBezTo>
                <a:cubicBezTo>
                  <a:pt x="1596947" y="134478"/>
                  <a:pt x="1156316" y="-45324"/>
                  <a:pt x="739870" y="67831"/>
                </a:cubicBezTo>
                <a:cubicBezTo>
                  <a:pt x="323424" y="180986"/>
                  <a:pt x="34375" y="559054"/>
                  <a:pt x="34375" y="990600"/>
                </a:cubicBezTo>
                <a:lnTo>
                  <a:pt x="0" y="990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99296" y="204688"/>
                  <a:pt x="2333253" y="667539"/>
                  <a:pt x="2322251" y="1185898"/>
                </a:cubicBezTo>
                <a:lnTo>
                  <a:pt x="2272049" y="1184833"/>
                </a:lnTo>
                <a:cubicBezTo>
                  <a:pt x="2282575" y="688887"/>
                  <a:pt x="1963059" y="246051"/>
                  <a:pt x="1489089" y="99680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矩形 19"/>
          <p:cNvSpPr/>
          <p:nvPr/>
        </p:nvSpPr>
        <p:spPr>
          <a:xfrm>
            <a:off x="1382760" y="78912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熟悉主要岗位工作人员的职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直接连接符 22"/>
          <p:cNvSpPr/>
          <p:nvPr/>
        </p:nvSpPr>
        <p:spPr>
          <a:xfrm>
            <a:off x="1170000" y="3429000"/>
            <a:ext cx="10410840" cy="3168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矩形 48"/>
          <p:cNvSpPr/>
          <p:nvPr/>
        </p:nvSpPr>
        <p:spPr>
          <a:xfrm>
            <a:off x="1042920" y="1351080"/>
            <a:ext cx="1022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车司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段根据列车配置数和运行图的要求配置若干司机组，由司机长进行指挥。客车司机负责列车的运行工作，依据列车运行计划的要求，根据行车调度员的指示、命令完成列车驾驶，并使列车在各车站完成乘客乘降作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5-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Rectangle 34"/>
          <p:cNvSpPr/>
          <p:nvPr/>
        </p:nvSpPr>
        <p:spPr>
          <a:xfrm>
            <a:off x="152280" y="15228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矩形 1"/>
          <p:cNvSpPr/>
          <p:nvPr/>
        </p:nvSpPr>
        <p:spPr>
          <a:xfrm>
            <a:off x="1042920" y="3774960"/>
            <a:ext cx="659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职责如下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按运营图的要求安全、快速、准点地驾驶列车，负责客车在正线上的运营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合段内的车辆调试、验收、保养等工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2" name="Picture 2" descr="9X]%GZ@S`}}$D_VH%UY7)_N"/>
          <p:cNvPicPr/>
          <p:nvPr/>
        </p:nvPicPr>
        <p:blipFill>
          <a:blip r:embed="rId1"/>
          <a:stretch/>
        </p:blipFill>
        <p:spPr>
          <a:xfrm>
            <a:off x="7896240" y="3911760"/>
            <a:ext cx="301932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矩形 19"/>
          <p:cNvSpPr/>
          <p:nvPr/>
        </p:nvSpPr>
        <p:spPr>
          <a:xfrm>
            <a:off x="1382760" y="78912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熟悉主要岗位工作人员的职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直接连接符 22"/>
          <p:cNvSpPr/>
          <p:nvPr/>
        </p:nvSpPr>
        <p:spPr>
          <a:xfrm>
            <a:off x="1042920" y="2459160"/>
            <a:ext cx="10410840" cy="3168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矩形 48"/>
          <p:cNvSpPr/>
          <p:nvPr/>
        </p:nvSpPr>
        <p:spPr>
          <a:xfrm>
            <a:off x="1042920" y="1351080"/>
            <a:ext cx="10225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段调度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段调度员包括车场调度员、信号楼调度员、车辆检修调度员和派班员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5-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Rectangle 34"/>
          <p:cNvSpPr/>
          <p:nvPr/>
        </p:nvSpPr>
        <p:spPr>
          <a:xfrm>
            <a:off x="152280" y="15228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8" name="组合 34"/>
          <p:cNvGrpSpPr/>
          <p:nvPr/>
        </p:nvGrpSpPr>
        <p:grpSpPr>
          <a:xfrm>
            <a:off x="-131760" y="2554200"/>
            <a:ext cx="3170160" cy="4284720"/>
            <a:chOff x="-131760" y="2554200"/>
            <a:chExt cx="3170160" cy="4284720"/>
          </a:xfrm>
        </p:grpSpPr>
        <p:sp>
          <p:nvSpPr>
            <p:cNvPr id="939" name="圆角矩形 4"/>
            <p:cNvSpPr/>
            <p:nvPr/>
          </p:nvSpPr>
          <p:spPr>
            <a:xfrm>
              <a:off x="2520" y="2554200"/>
              <a:ext cx="3035880" cy="4284720"/>
            </a:xfrm>
            <a:custGeom>
              <a:avLst/>
              <a:gdLst>
                <a:gd name="textAreaLeft" fmla="*/ 48960 w 3035880"/>
                <a:gd name="textAreaRight" fmla="*/ 2986920 w 3035880"/>
                <a:gd name="textAreaTop" fmla="*/ 48960 h 4284720"/>
                <a:gd name="textAreaBottom" fmla="*/ 4235760 h 4284720"/>
              </a:gdLst>
              <a:ahLst/>
              <a:rect l="textAreaLeft" t="textAreaTop" r="textAreaRight" b="textAreaBottom"/>
              <a:pathLst>
                <a:path w="21600" h="30484">
                  <a:moveTo>
                    <a:pt x="1194" y="0"/>
                  </a:moveTo>
                  <a:arcTo wR="1194" hR="1194" stAng="16200000" swAng="-5400000"/>
                  <a:lnTo>
                    <a:pt x="0" y="29290"/>
                  </a:lnTo>
                  <a:arcTo wR="1194" hR="1194" stAng="10800000" swAng="-5400000"/>
                  <a:lnTo>
                    <a:pt x="20406" y="30484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文本框 18"/>
            <p:cNvSpPr/>
            <p:nvPr/>
          </p:nvSpPr>
          <p:spPr>
            <a:xfrm>
              <a:off x="-131760" y="2688840"/>
              <a:ext cx="30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车场调度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直接连接符 27"/>
            <p:cNvSpPr/>
            <p:nvPr/>
          </p:nvSpPr>
          <p:spPr>
            <a:xfrm>
              <a:off x="322200" y="3239280"/>
              <a:ext cx="2396880" cy="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文本框 31"/>
            <p:cNvSpPr/>
            <p:nvPr/>
          </p:nvSpPr>
          <p:spPr>
            <a:xfrm>
              <a:off x="2520" y="3344400"/>
              <a:ext cx="2950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统一指挥车连段内的行车组织工作；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全面负责组织实施客运、机车车辆转轨和去送作业；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组织实施调试作业、列车出入车辆段作业车场；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合理科学地调配人员、机车车辆；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协调安排车辆段内行车设备、消防设备及库房设备的检修维护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3" name="组合 41"/>
          <p:cNvGrpSpPr/>
          <p:nvPr/>
        </p:nvGrpSpPr>
        <p:grpSpPr>
          <a:xfrm>
            <a:off x="2938320" y="2592360"/>
            <a:ext cx="3171960" cy="2884680"/>
            <a:chOff x="2938320" y="2592360"/>
            <a:chExt cx="3171960" cy="2884680"/>
          </a:xfrm>
        </p:grpSpPr>
        <p:sp>
          <p:nvSpPr>
            <p:cNvPr id="944" name="圆角矩形 4"/>
            <p:cNvSpPr/>
            <p:nvPr/>
          </p:nvSpPr>
          <p:spPr>
            <a:xfrm>
              <a:off x="3072600" y="2592360"/>
              <a:ext cx="3037680" cy="2884680"/>
            </a:xfrm>
            <a:prstGeom prst="roundRect">
              <a:avLst>
                <a:gd name="adj" fmla="val 5528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文本框 18"/>
            <p:cNvSpPr/>
            <p:nvPr/>
          </p:nvSpPr>
          <p:spPr>
            <a:xfrm>
              <a:off x="2938320" y="2682720"/>
              <a:ext cx="303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信号楼调度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直接连接符 27"/>
            <p:cNvSpPr/>
            <p:nvPr/>
          </p:nvSpPr>
          <p:spPr>
            <a:xfrm>
              <a:off x="3392280" y="3053520"/>
              <a:ext cx="2398320" cy="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文本框 31"/>
            <p:cNvSpPr/>
            <p:nvPr/>
          </p:nvSpPr>
          <p:spPr>
            <a:xfrm>
              <a:off x="3072600" y="3124080"/>
              <a:ext cx="295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接收并执行行车调度员的接发列车、调车作业计划；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负责车辆段内行车指挥、进路排列和列车接发工作；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操控微机设备，实现微机联锁设备的功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8" name="组合 46"/>
          <p:cNvGrpSpPr/>
          <p:nvPr/>
        </p:nvGrpSpPr>
        <p:grpSpPr>
          <a:xfrm>
            <a:off x="6070680" y="2573280"/>
            <a:ext cx="3143160" cy="4284720"/>
            <a:chOff x="6070680" y="2573280"/>
            <a:chExt cx="3143160" cy="4284720"/>
          </a:xfrm>
        </p:grpSpPr>
        <p:sp>
          <p:nvSpPr>
            <p:cNvPr id="949" name="圆角矩形 4"/>
            <p:cNvSpPr/>
            <p:nvPr/>
          </p:nvSpPr>
          <p:spPr>
            <a:xfrm>
              <a:off x="6176880" y="2573280"/>
              <a:ext cx="3036960" cy="4284720"/>
            </a:xfrm>
            <a:custGeom>
              <a:avLst/>
              <a:gdLst>
                <a:gd name="textAreaLeft" fmla="*/ 48960 w 3036960"/>
                <a:gd name="textAreaRight" fmla="*/ 2988000 w 3036960"/>
                <a:gd name="textAreaTop" fmla="*/ 48960 h 4284720"/>
                <a:gd name="textAreaBottom" fmla="*/ 4235760 h 4284720"/>
              </a:gdLst>
              <a:ahLst/>
              <a:rect l="textAreaLeft" t="textAreaTop" r="textAreaRight" b="textAreaBottom"/>
              <a:pathLst>
                <a:path w="21600" h="30473">
                  <a:moveTo>
                    <a:pt x="1194" y="0"/>
                  </a:moveTo>
                  <a:arcTo wR="1194" hR="1194" stAng="16200000" swAng="-5400000"/>
                  <a:lnTo>
                    <a:pt x="0" y="29279"/>
                  </a:lnTo>
                  <a:arcTo wR="1194" hR="1194" stAng="10800000" swAng="-5400000"/>
                  <a:lnTo>
                    <a:pt x="20406" y="30473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文本框 18"/>
            <p:cNvSpPr/>
            <p:nvPr/>
          </p:nvSpPr>
          <p:spPr>
            <a:xfrm>
              <a:off x="6070680" y="2707920"/>
              <a:ext cx="303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车辆检修调度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直接连接符 27"/>
            <p:cNvSpPr/>
            <p:nvPr/>
          </p:nvSpPr>
          <p:spPr>
            <a:xfrm>
              <a:off x="6524640" y="3258360"/>
              <a:ext cx="2397600" cy="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文本框 31"/>
            <p:cNvSpPr/>
            <p:nvPr/>
          </p:nvSpPr>
          <p:spPr>
            <a:xfrm>
              <a:off x="6204960" y="3363480"/>
              <a:ext cx="295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全面负责车辆的计划维修、故障抢修、事故处理、调试、改造作业安排及组织实施，监视所有车辆技术状态，提供运行图所规定的列车数上线服务，并确保其状态良好，符合有关规定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负责车辆检修内务管理及协调、调配车辆部各中心的生产任务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3" name="组合 51"/>
          <p:cNvGrpSpPr/>
          <p:nvPr/>
        </p:nvGrpSpPr>
        <p:grpSpPr>
          <a:xfrm>
            <a:off x="9117000" y="2540160"/>
            <a:ext cx="3171960" cy="4285800"/>
            <a:chOff x="9117000" y="2540160"/>
            <a:chExt cx="3171960" cy="4285800"/>
          </a:xfrm>
        </p:grpSpPr>
        <p:sp>
          <p:nvSpPr>
            <p:cNvPr id="954" name="圆角矩形 4"/>
            <p:cNvSpPr/>
            <p:nvPr/>
          </p:nvSpPr>
          <p:spPr>
            <a:xfrm>
              <a:off x="9251280" y="2540160"/>
              <a:ext cx="3037680" cy="4285800"/>
            </a:xfrm>
            <a:custGeom>
              <a:avLst/>
              <a:gdLst>
                <a:gd name="textAreaLeft" fmla="*/ 48960 w 3037680"/>
                <a:gd name="textAreaRight" fmla="*/ 2988720 w 3037680"/>
                <a:gd name="textAreaTop" fmla="*/ 48960 h 4285800"/>
                <a:gd name="textAreaBottom" fmla="*/ 4236840 h 4285800"/>
              </a:gdLst>
              <a:ahLst/>
              <a:rect l="textAreaLeft" t="textAreaTop" r="textAreaRight" b="textAreaBottom"/>
              <a:pathLst>
                <a:path w="21600" h="30474">
                  <a:moveTo>
                    <a:pt x="1194" y="0"/>
                  </a:moveTo>
                  <a:arcTo wR="1194" hR="1194" stAng="16200000" swAng="-5400000"/>
                  <a:lnTo>
                    <a:pt x="0" y="29280"/>
                  </a:lnTo>
                  <a:arcTo wR="1194" hR="1194" stAng="10800000" swAng="-5400000"/>
                  <a:lnTo>
                    <a:pt x="20406" y="30474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文本框 18"/>
            <p:cNvSpPr/>
            <p:nvPr/>
          </p:nvSpPr>
          <p:spPr>
            <a:xfrm>
              <a:off x="9117000" y="2674800"/>
              <a:ext cx="303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派班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直接连接符 27"/>
            <p:cNvSpPr/>
            <p:nvPr/>
          </p:nvSpPr>
          <p:spPr>
            <a:xfrm>
              <a:off x="9570960" y="3225240"/>
              <a:ext cx="2398320" cy="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文本框 31"/>
            <p:cNvSpPr/>
            <p:nvPr/>
          </p:nvSpPr>
          <p:spPr>
            <a:xfrm>
              <a:off x="9251280" y="3345840"/>
              <a:ext cx="2952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安排司机出勤、退勤；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编制、实施司机的排班计划；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遇突发事件时及时调整交路，安排好司机的出勤、派班工作；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负责与车辆检修调度员交接检修及运用列车、与出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退勤司机交接运营列车，向行车调度员通报司机的配备情况；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）协助乘务中心主任管理司机日常事务，检查落实各项管理制度和作业安全规定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8" name="组合 56"/>
          <p:cNvGrpSpPr/>
          <p:nvPr/>
        </p:nvGrpSpPr>
        <p:grpSpPr>
          <a:xfrm>
            <a:off x="3171960" y="4842000"/>
            <a:ext cx="2617560" cy="2474640"/>
            <a:chOff x="3171960" y="4842000"/>
            <a:chExt cx="2617560" cy="2474640"/>
          </a:xfrm>
        </p:grpSpPr>
        <p:sp>
          <p:nvSpPr>
            <p:cNvPr id="959" name="圆角矩形 4"/>
            <p:cNvSpPr/>
            <p:nvPr/>
          </p:nvSpPr>
          <p:spPr>
            <a:xfrm>
              <a:off x="3282840" y="4842000"/>
              <a:ext cx="2506680" cy="2474640"/>
            </a:xfrm>
            <a:prstGeom prst="roundRect">
              <a:avLst>
                <a:gd name="adj" fmla="val 5528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文本框 18"/>
            <p:cNvSpPr/>
            <p:nvPr/>
          </p:nvSpPr>
          <p:spPr>
            <a:xfrm>
              <a:off x="3171960" y="4919760"/>
              <a:ext cx="25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调车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直接连接符 27"/>
            <p:cNvSpPr/>
            <p:nvPr/>
          </p:nvSpPr>
          <p:spPr>
            <a:xfrm>
              <a:off x="3546720" y="5237640"/>
              <a:ext cx="1978920" cy="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文本框 31"/>
            <p:cNvSpPr/>
            <p:nvPr/>
          </p:nvSpPr>
          <p:spPr>
            <a:xfrm>
              <a:off x="3282840" y="5298120"/>
              <a:ext cx="24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车辆段调车作业时，调车员负责机车车辆移动的现场指挥，通常由工程车司机或副司机担任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任意多边形 22"/>
          <p:cNvSpPr/>
          <p:nvPr/>
        </p:nvSpPr>
        <p:spPr>
          <a:xfrm>
            <a:off x="-3240" y="1376280"/>
            <a:ext cx="12195360" cy="54817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矩形 23"/>
          <p:cNvSpPr/>
          <p:nvPr/>
        </p:nvSpPr>
        <p:spPr>
          <a:xfrm>
            <a:off x="2933640" y="131112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思考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文本框 24"/>
          <p:cNvSpPr/>
          <p:nvPr/>
        </p:nvSpPr>
        <p:spPr>
          <a:xfrm>
            <a:off x="992160" y="2790720"/>
            <a:ext cx="926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城市轨道交通的主要行车设备有哪些？在行车中起什么作用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简述城市轨道交通行车组织的特点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行车组织工作的原则是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行车组织工作由哪些岗位的人员完成？管理模式怎样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谁是调度区段的最高负责人？他的职责是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6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运营线、车站、车辆段、列车的行车工作分别由谁进行指挥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7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客车司机需要具备什么条件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8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客车司机的主要职责是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任意多边形 36"/>
          <p:cNvSpPr/>
          <p:nvPr/>
        </p:nvSpPr>
        <p:spPr>
          <a:xfrm>
            <a:off x="-3240" y="1298520"/>
            <a:ext cx="12195360" cy="54802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矩形 19"/>
          <p:cNvSpPr/>
          <p:nvPr/>
        </p:nvSpPr>
        <p:spPr>
          <a:xfrm>
            <a:off x="1382760" y="78912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掌握城市轨道交通的概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直接连接符 22"/>
          <p:cNvSpPr/>
          <p:nvPr/>
        </p:nvSpPr>
        <p:spPr>
          <a:xfrm>
            <a:off x="1469880" y="2435400"/>
            <a:ext cx="9137880" cy="5364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矩形 48"/>
          <p:cNvSpPr/>
          <p:nvPr/>
        </p:nvSpPr>
        <p:spPr>
          <a:xfrm>
            <a:off x="1382760" y="1584360"/>
            <a:ext cx="9069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城市轨道交通是指采用专用轨道导向运行的城市公共客运交通系统，包括地铁系统、轻轨系统、单轨系统、有轨电车、磁浮系统、自动导向轨道交通系统、市域快速轨道系统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1-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Picture 23" descr="T1~O4NNDGEOQOD71OR1OR1Q"/>
          <p:cNvPicPr/>
          <p:nvPr/>
        </p:nvPicPr>
        <p:blipFill>
          <a:blip r:embed="rId1"/>
          <a:stretch/>
        </p:blipFill>
        <p:spPr>
          <a:xfrm>
            <a:off x="5337000" y="2973240"/>
            <a:ext cx="48484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矩形 24"/>
          <p:cNvSpPr/>
          <p:nvPr/>
        </p:nvSpPr>
        <p:spPr>
          <a:xfrm>
            <a:off x="7935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矩形 25"/>
          <p:cNvSpPr/>
          <p:nvPr/>
        </p:nvSpPr>
        <p:spPr>
          <a:xfrm>
            <a:off x="1050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矩形 23"/>
          <p:cNvSpPr/>
          <p:nvPr/>
        </p:nvSpPr>
        <p:spPr>
          <a:xfrm>
            <a:off x="7935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22"/>
          <p:cNvSpPr/>
          <p:nvPr/>
        </p:nvSpPr>
        <p:spPr>
          <a:xfrm>
            <a:off x="1050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任意多边形 2"/>
          <p:cNvSpPr/>
          <p:nvPr/>
        </p:nvSpPr>
        <p:spPr>
          <a:xfrm rot="16200000">
            <a:off x="4440960" y="2469240"/>
            <a:ext cx="157032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任意多边形 5"/>
          <p:cNvSpPr/>
          <p:nvPr/>
        </p:nvSpPr>
        <p:spPr>
          <a:xfrm flipH="1" rot="5400000">
            <a:off x="6491880" y="2469960"/>
            <a:ext cx="157032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任意多边形 7"/>
          <p:cNvSpPr/>
          <p:nvPr/>
        </p:nvSpPr>
        <p:spPr>
          <a:xfrm rot="16200000">
            <a:off x="4440240" y="4179240"/>
            <a:ext cx="157140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任意多边形 10"/>
          <p:cNvSpPr/>
          <p:nvPr/>
        </p:nvSpPr>
        <p:spPr>
          <a:xfrm flipH="1" rot="5400000">
            <a:off x="6491520" y="4180320"/>
            <a:ext cx="157140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11"/>
          <p:cNvSpPr/>
          <p:nvPr/>
        </p:nvSpPr>
        <p:spPr>
          <a:xfrm>
            <a:off x="1447920" y="853920"/>
            <a:ext cx="65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城市轨道交通的特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矩形 12"/>
          <p:cNvSpPr/>
          <p:nvPr/>
        </p:nvSpPr>
        <p:spPr>
          <a:xfrm>
            <a:off x="1471680" y="1471680"/>
            <a:ext cx="91900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其他城市公共交通方式相比较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城市轨道交通具有无可比拟的优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体现在</a:t>
            </a: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运能大、速度快、能耗低、污染少、可靠性高、舒适性好和占地面积少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方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文本框 26"/>
          <p:cNvSpPr/>
          <p:nvPr/>
        </p:nvSpPr>
        <p:spPr>
          <a:xfrm>
            <a:off x="4746600" y="273384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29"/>
          <p:cNvSpPr/>
          <p:nvPr/>
        </p:nvSpPr>
        <p:spPr>
          <a:xfrm>
            <a:off x="6483240" y="2733840"/>
            <a:ext cx="124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32"/>
          <p:cNvSpPr/>
          <p:nvPr/>
        </p:nvSpPr>
        <p:spPr>
          <a:xfrm>
            <a:off x="474660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文本框 34"/>
          <p:cNvSpPr/>
          <p:nvPr/>
        </p:nvSpPr>
        <p:spPr>
          <a:xfrm>
            <a:off x="647856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矩形 29"/>
          <p:cNvSpPr/>
          <p:nvPr/>
        </p:nvSpPr>
        <p:spPr>
          <a:xfrm>
            <a:off x="137016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线路固定，采用轨道结构进行承重和导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矩形 30"/>
          <p:cNvSpPr/>
          <p:nvPr/>
        </p:nvSpPr>
        <p:spPr>
          <a:xfrm>
            <a:off x="8332920" y="3164040"/>
            <a:ext cx="2828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大型地下铁道系统的高峰小时单向运输能力可达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6 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万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~ 7 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万人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矩形 31"/>
          <p:cNvSpPr/>
          <p:nvPr/>
        </p:nvSpPr>
        <p:spPr>
          <a:xfrm>
            <a:off x="1370160" y="4761000"/>
            <a:ext cx="2828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最高运行速度能达到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100 km / h, 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旅行速度基本可达到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35 ~45 km / 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矩形 32"/>
          <p:cNvSpPr/>
          <p:nvPr/>
        </p:nvSpPr>
        <p:spPr>
          <a:xfrm>
            <a:off x="8332920" y="4761000"/>
            <a:ext cx="2828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采用了多项高新技术，使得每位乘客的平均能耗远远低于其他任何一种城市交通方式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文本框 33"/>
          <p:cNvSpPr/>
          <p:nvPr/>
        </p:nvSpPr>
        <p:spPr>
          <a:xfrm>
            <a:off x="1317600" y="269892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轨道导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文本框 34"/>
          <p:cNvSpPr/>
          <p:nvPr/>
        </p:nvSpPr>
        <p:spPr>
          <a:xfrm>
            <a:off x="8104320" y="269892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运能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文本框 35"/>
          <p:cNvSpPr/>
          <p:nvPr/>
        </p:nvSpPr>
        <p:spPr>
          <a:xfrm>
            <a:off x="1317600" y="435924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速度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文本框 36"/>
          <p:cNvSpPr/>
          <p:nvPr/>
        </p:nvSpPr>
        <p:spPr>
          <a:xfrm>
            <a:off x="8104320" y="435924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能耗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1-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直接连接符 22"/>
          <p:cNvSpPr/>
          <p:nvPr/>
        </p:nvSpPr>
        <p:spPr>
          <a:xfrm>
            <a:off x="1523880" y="2235240"/>
            <a:ext cx="9137880" cy="5544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矩形 24"/>
          <p:cNvSpPr/>
          <p:nvPr/>
        </p:nvSpPr>
        <p:spPr>
          <a:xfrm>
            <a:off x="7935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矩形 25"/>
          <p:cNvSpPr/>
          <p:nvPr/>
        </p:nvSpPr>
        <p:spPr>
          <a:xfrm>
            <a:off x="1050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矩形 23"/>
          <p:cNvSpPr/>
          <p:nvPr/>
        </p:nvSpPr>
        <p:spPr>
          <a:xfrm>
            <a:off x="7935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矩形 22"/>
          <p:cNvSpPr/>
          <p:nvPr/>
        </p:nvSpPr>
        <p:spPr>
          <a:xfrm>
            <a:off x="1050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任意多边形 2"/>
          <p:cNvSpPr/>
          <p:nvPr/>
        </p:nvSpPr>
        <p:spPr>
          <a:xfrm rot="16200000">
            <a:off x="4440960" y="2469240"/>
            <a:ext cx="157032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任意多边形 5"/>
          <p:cNvSpPr/>
          <p:nvPr/>
        </p:nvSpPr>
        <p:spPr>
          <a:xfrm flipH="1" rot="5400000">
            <a:off x="6491880" y="2469960"/>
            <a:ext cx="157032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任意多边形 7"/>
          <p:cNvSpPr/>
          <p:nvPr/>
        </p:nvSpPr>
        <p:spPr>
          <a:xfrm rot="16200000">
            <a:off x="4440240" y="4179240"/>
            <a:ext cx="157140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任意多边形 10"/>
          <p:cNvSpPr/>
          <p:nvPr/>
        </p:nvSpPr>
        <p:spPr>
          <a:xfrm flipH="1" rot="5400000">
            <a:off x="6491520" y="4180320"/>
            <a:ext cx="157140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文本框 11"/>
          <p:cNvSpPr/>
          <p:nvPr/>
        </p:nvSpPr>
        <p:spPr>
          <a:xfrm>
            <a:off x="1447920" y="662040"/>
            <a:ext cx="65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城市轨道交通的特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矩形 12"/>
          <p:cNvSpPr/>
          <p:nvPr/>
        </p:nvSpPr>
        <p:spPr>
          <a:xfrm>
            <a:off x="1471680" y="1471680"/>
            <a:ext cx="91900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其他城市公共交通方式相比较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,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城市轨道交通具有无可比拟的优势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,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体现在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运能大、速度快、能耗低、污染少、可靠性高、舒适性好和占地面积少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方面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文本框 26"/>
          <p:cNvSpPr/>
          <p:nvPr/>
        </p:nvSpPr>
        <p:spPr>
          <a:xfrm>
            <a:off x="4746600" y="273384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文本框 29"/>
          <p:cNvSpPr/>
          <p:nvPr/>
        </p:nvSpPr>
        <p:spPr>
          <a:xfrm>
            <a:off x="6483240" y="2733840"/>
            <a:ext cx="124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文本框 32"/>
          <p:cNvSpPr/>
          <p:nvPr/>
        </p:nvSpPr>
        <p:spPr>
          <a:xfrm>
            <a:off x="474660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文本框 34"/>
          <p:cNvSpPr/>
          <p:nvPr/>
        </p:nvSpPr>
        <p:spPr>
          <a:xfrm>
            <a:off x="647856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矩形 29"/>
          <p:cNvSpPr/>
          <p:nvPr/>
        </p:nvSpPr>
        <p:spPr>
          <a:xfrm>
            <a:off x="137016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一般均采用电力牵引方式，没有废气污染；以内燃动车组列车，大运量集团化运输，污染也较少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矩形 30"/>
          <p:cNvSpPr/>
          <p:nvPr/>
        </p:nvSpPr>
        <p:spPr>
          <a:xfrm>
            <a:off x="833292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与地面交通隔离；地下隧道受气候条件影响较小；采用先进的信号安全系统来确保列车运行安全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矩形 31"/>
          <p:cNvSpPr/>
          <p:nvPr/>
        </p:nvSpPr>
        <p:spPr>
          <a:xfrm>
            <a:off x="137016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主要表现在环境质量与拥挤度两个方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32"/>
          <p:cNvSpPr/>
          <p:nvPr/>
        </p:nvSpPr>
        <p:spPr>
          <a:xfrm>
            <a:off x="8332920" y="4761000"/>
            <a:ext cx="2828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大量采用立交形式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, 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而大大减少了城市土地的占用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；大量采用立交形式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, 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而大大减少了城市土地的占用；使得沿线土地得到有效利用和开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文本框 33"/>
          <p:cNvSpPr/>
          <p:nvPr/>
        </p:nvSpPr>
        <p:spPr>
          <a:xfrm>
            <a:off x="1317600" y="269892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污染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文本框 34"/>
          <p:cNvSpPr/>
          <p:nvPr/>
        </p:nvSpPr>
        <p:spPr>
          <a:xfrm>
            <a:off x="8104320" y="269892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可靠性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文本框 35"/>
          <p:cNvSpPr/>
          <p:nvPr/>
        </p:nvSpPr>
        <p:spPr>
          <a:xfrm>
            <a:off x="1317600" y="435924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舒适性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文本框 36"/>
          <p:cNvSpPr/>
          <p:nvPr/>
        </p:nvSpPr>
        <p:spPr>
          <a:xfrm>
            <a:off x="8104320" y="435924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占地面积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矩形 24"/>
          <p:cNvSpPr/>
          <p:nvPr/>
        </p:nvSpPr>
        <p:spPr>
          <a:xfrm>
            <a:off x="0" y="54612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1-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直接连接符 22"/>
          <p:cNvSpPr/>
          <p:nvPr/>
        </p:nvSpPr>
        <p:spPr>
          <a:xfrm>
            <a:off x="1523880" y="2235240"/>
            <a:ext cx="9137880" cy="5544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文本框 3"/>
          <p:cNvSpPr/>
          <p:nvPr/>
        </p:nvSpPr>
        <p:spPr>
          <a:xfrm>
            <a:off x="2021040" y="40878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熟悉城市轨道交通系统的主要行车设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626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8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矩形 19"/>
          <p:cNvSpPr/>
          <p:nvPr/>
        </p:nvSpPr>
        <p:spPr>
          <a:xfrm>
            <a:off x="1382760" y="78912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直接连接符 22"/>
          <p:cNvSpPr/>
          <p:nvPr/>
        </p:nvSpPr>
        <p:spPr>
          <a:xfrm>
            <a:off x="1469880" y="2435400"/>
            <a:ext cx="9137880" cy="5364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48"/>
          <p:cNvSpPr/>
          <p:nvPr/>
        </p:nvSpPr>
        <p:spPr>
          <a:xfrm>
            <a:off x="1382760" y="1584360"/>
            <a:ext cx="906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是城市轨道交通系统完成乘客运输任务的工具，同时也是整个城市轨道交通系统中最关键、技术含量高且集中的机电设备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-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1" name="组合 5"/>
          <p:cNvGrpSpPr/>
          <p:nvPr/>
        </p:nvGrpSpPr>
        <p:grpSpPr>
          <a:xfrm>
            <a:off x="1469880" y="2805120"/>
            <a:ext cx="3495960" cy="3565440"/>
            <a:chOff x="1469880" y="2805120"/>
            <a:chExt cx="3495960" cy="3565440"/>
          </a:xfrm>
        </p:grpSpPr>
        <p:sp>
          <p:nvSpPr>
            <p:cNvPr id="642" name="圆角矩形 4"/>
            <p:cNvSpPr/>
            <p:nvPr/>
          </p:nvSpPr>
          <p:spPr>
            <a:xfrm>
              <a:off x="1489320" y="2805120"/>
              <a:ext cx="3476520" cy="3565440"/>
            </a:xfrm>
            <a:custGeom>
              <a:avLst/>
              <a:gdLst>
                <a:gd name="textAreaLeft" fmla="*/ 56160 w 3476520"/>
                <a:gd name="textAreaRight" fmla="*/ 3420360 w 3476520"/>
                <a:gd name="textAreaTop" fmla="*/ 56160 h 3565440"/>
                <a:gd name="textAreaBottom" fmla="*/ 3509280 h 3565440"/>
              </a:gdLst>
              <a:ahLst/>
              <a:rect l="textAreaLeft" t="textAreaTop" r="textAreaRight" b="textAreaBottom"/>
              <a:pathLst>
                <a:path w="21600" h="22152">
                  <a:moveTo>
                    <a:pt x="1194" y="0"/>
                  </a:moveTo>
                  <a:arcTo wR="1194" hR="1194" stAng="16200000" swAng="-5400000"/>
                  <a:lnTo>
                    <a:pt x="0" y="20958"/>
                  </a:lnTo>
                  <a:arcTo wR="1194" hR="1194" stAng="10800000" swAng="-5400000"/>
                  <a:lnTo>
                    <a:pt x="20406" y="22152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文本框 18"/>
            <p:cNvSpPr/>
            <p:nvPr/>
          </p:nvSpPr>
          <p:spPr>
            <a:xfrm>
              <a:off x="1469880" y="2954160"/>
              <a:ext cx="347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客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直接连接符 27"/>
            <p:cNvSpPr/>
            <p:nvPr/>
          </p:nvSpPr>
          <p:spPr>
            <a:xfrm>
              <a:off x="1865880" y="3457440"/>
              <a:ext cx="2744640" cy="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文本框 31"/>
            <p:cNvSpPr/>
            <p:nvPr/>
          </p:nvSpPr>
          <p:spPr>
            <a:xfrm>
              <a:off x="1865880" y="3631320"/>
              <a:ext cx="256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城市轨道交通车辆的类型不同，其技术参数也不同，但其结构基本相同。一般城市轨道交通车辆的组成为：</a:t>
              </a:r>
              <a:r>
                <a:rPr b="0" lang="zh-CN" sz="2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车体、车门、车钩缓冲装置、转向架、制动装置</a:t>
              </a: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等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6" name="Picture 2" descr="ZHT5[]V%$GM(5C}Q`{G@8XR"/>
          <p:cNvPicPr/>
          <p:nvPr/>
        </p:nvPicPr>
        <p:blipFill>
          <a:blip r:embed="rId1"/>
          <a:stretch/>
        </p:blipFill>
        <p:spPr>
          <a:xfrm>
            <a:off x="5842080" y="2954160"/>
            <a:ext cx="4946400" cy="2372040"/>
          </a:xfrm>
          <a:prstGeom prst="rect">
            <a:avLst/>
          </a:prstGeom>
          <a:ln w="0">
            <a:noFill/>
          </a:ln>
        </p:spPr>
      </p:pic>
      <p:sp>
        <p:nvSpPr>
          <p:cNvPr id="647" name="文本框 1"/>
          <p:cNvSpPr/>
          <p:nvPr/>
        </p:nvSpPr>
        <p:spPr>
          <a:xfrm>
            <a:off x="7147080" y="5589720"/>
            <a:ext cx="28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高速磁悬浮列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矩形 19"/>
          <p:cNvSpPr/>
          <p:nvPr/>
        </p:nvSpPr>
        <p:spPr>
          <a:xfrm>
            <a:off x="1382760" y="78912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直接连接符 22"/>
          <p:cNvSpPr/>
          <p:nvPr/>
        </p:nvSpPr>
        <p:spPr>
          <a:xfrm>
            <a:off x="1469880" y="2435400"/>
            <a:ext cx="9137880" cy="5364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48"/>
          <p:cNvSpPr/>
          <p:nvPr/>
        </p:nvSpPr>
        <p:spPr>
          <a:xfrm>
            <a:off x="1382760" y="1584360"/>
            <a:ext cx="906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辆是城市轨道交通系统完成乘客运输任务的工具，同时也是整个城市轨道交通系统中最关键、技术含量高且集中的机电设备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矩形 24"/>
          <p:cNvSpPr/>
          <p:nvPr/>
        </p:nvSpPr>
        <p:spPr>
          <a:xfrm>
            <a:off x="-4680" y="730080"/>
            <a:ext cx="9493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-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组合 5"/>
          <p:cNvGrpSpPr/>
          <p:nvPr/>
        </p:nvGrpSpPr>
        <p:grpSpPr>
          <a:xfrm>
            <a:off x="1469880" y="2805120"/>
            <a:ext cx="3594240" cy="3747960"/>
            <a:chOff x="1469880" y="2805120"/>
            <a:chExt cx="3594240" cy="3747960"/>
          </a:xfrm>
        </p:grpSpPr>
        <p:sp>
          <p:nvSpPr>
            <p:cNvPr id="653" name="圆角矩形 4"/>
            <p:cNvSpPr/>
            <p:nvPr/>
          </p:nvSpPr>
          <p:spPr>
            <a:xfrm>
              <a:off x="1490040" y="2805120"/>
              <a:ext cx="3574080" cy="3747960"/>
            </a:xfrm>
            <a:custGeom>
              <a:avLst/>
              <a:gdLst>
                <a:gd name="textAreaLeft" fmla="*/ 57600 w 3574080"/>
                <a:gd name="textAreaRight" fmla="*/ 3516480 w 3574080"/>
                <a:gd name="textAreaTop" fmla="*/ 57600 h 3747960"/>
                <a:gd name="textAreaBottom" fmla="*/ 3690360 h 3747960"/>
              </a:gdLst>
              <a:ahLst/>
              <a:rect l="textAreaLeft" t="textAreaTop" r="textAreaRight" b="textAreaBottom"/>
              <a:pathLst>
                <a:path w="21600" h="22651">
                  <a:moveTo>
                    <a:pt x="1194" y="0"/>
                  </a:moveTo>
                  <a:arcTo wR="1194" hR="1194" stAng="16200000" swAng="-5400000"/>
                  <a:lnTo>
                    <a:pt x="0" y="21457"/>
                  </a:lnTo>
                  <a:arcTo wR="1194" hR="1194" stAng="10800000" swAng="-5400000"/>
                  <a:lnTo>
                    <a:pt x="20406" y="22651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文本框 18"/>
            <p:cNvSpPr/>
            <p:nvPr/>
          </p:nvSpPr>
          <p:spPr>
            <a:xfrm>
              <a:off x="1469880" y="2961720"/>
              <a:ext cx="357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6697"/>
                  </a:solidFill>
                  <a:latin typeface="微软雅黑"/>
                  <a:ea typeface="微软雅黑"/>
                </a:rPr>
                <a:t>工程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直接连接符 27"/>
            <p:cNvSpPr/>
            <p:nvPr/>
          </p:nvSpPr>
          <p:spPr>
            <a:xfrm>
              <a:off x="1877040" y="3490920"/>
              <a:ext cx="2821680" cy="0"/>
            </a:xfrm>
            <a:prstGeom prst="line">
              <a:avLst/>
            </a:prstGeom>
            <a:ln w="6480">
              <a:solidFill>
                <a:srgbClr val="2e66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文本框 31"/>
            <p:cNvSpPr/>
            <p:nvPr/>
          </p:nvSpPr>
          <p:spPr>
            <a:xfrm>
              <a:off x="1722960" y="3673800"/>
              <a:ext cx="315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在城市轨道交通车辆中还有一种工程车辆，它的作用是</a:t>
              </a:r>
              <a:r>
                <a:rPr b="0" lang="zh-CN" sz="2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维护线路设备设施，并承担突发事件处理、事故救援工作</a:t>
              </a: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。按照用途不同可分为</a:t>
              </a:r>
              <a:r>
                <a:rPr b="0" lang="zh-CN" sz="2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内燃机牵引车、轨道牵引车、接触网线车、起重车、清扫车、平板装卸车</a:t>
              </a: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等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7" name="Picture 2" descr="7KVO0~UI}%`O3XFO[YRVDLL"/>
          <p:cNvPicPr/>
          <p:nvPr/>
        </p:nvPicPr>
        <p:blipFill>
          <a:blip r:embed="rId1"/>
          <a:stretch/>
        </p:blipFill>
        <p:spPr>
          <a:xfrm>
            <a:off x="5730840" y="2960640"/>
            <a:ext cx="5391360" cy="2448000"/>
          </a:xfrm>
          <a:prstGeom prst="rect">
            <a:avLst/>
          </a:prstGeom>
          <a:ln w="0">
            <a:noFill/>
          </a:ln>
        </p:spPr>
      </p:pic>
      <p:sp>
        <p:nvSpPr>
          <p:cNvPr id="658" name="文本框 13"/>
          <p:cNvSpPr/>
          <p:nvPr/>
        </p:nvSpPr>
        <p:spPr>
          <a:xfrm>
            <a:off x="7554960" y="5680080"/>
            <a:ext cx="289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带受电弓的工程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3:02:58Z</dcterms:created>
  <dc:creator>哎呀小小草</dc:creator>
  <dc:description/>
  <cp:keywords/>
  <dc:language>en-US</dc:language>
  <cp:lastModifiedBy>李荣娜</cp:lastModifiedBy>
  <dcterms:modified xsi:type="dcterms:W3CDTF">2016-07-29T03:13:16Z</dcterms:modified>
  <cp:revision>60</cp:revision>
  <dc:subject/>
  <dc:title>PowerPoint 演示文稿</dc:title>
</cp:coreProperties>
</file>