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EC5B-2998-44FB-AC83-1322DE0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04F65-566D-4A1F-A538-0CF3FAD0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C3AD-0A24-43C9-961A-B9E80AD9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C59F-86B0-4948-B5BE-9DA41FE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DD25-635A-4CD5-99D9-295561E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3C93-052B-4C18-84AE-BAA1BFA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B858-7375-4CAE-B7FC-B607C97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8984-BB45-40D8-919B-0FFFAACC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52F20-92F7-4569-B34D-E5A387E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02EFC-9084-495C-94F0-930BF6AC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6232-AE4E-4C17-8F02-220F6330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289FB-F838-4F45-AF5F-5249AB9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E635-854E-41E2-A4EE-3CEB3602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0A1C6-11DA-4AD9-B270-812AD682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7A53A-1206-4B70-9A6B-07259A2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ADC27-0952-45A8-9927-AA84F94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0A681-50EB-477F-9D02-438C4C5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220F-8FDB-43B2-A6BD-2EEEA7B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6614-DB41-46A0-B1C7-1662CF5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0EBF3-B3EA-4C67-9BCB-05177BA5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0E4E1-B2A7-46B7-AD55-9D0FD47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66841-A804-4F0A-B0D8-224994DA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1DFC7-9EC2-46E1-B600-DEB8F0D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6AB79-CFA4-4F2E-9EF1-5026A70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10D5-D8AF-4B6B-AFF2-6A7C84BD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A43FE-89E2-43D4-ADCF-261C451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D411A-6AB7-4566-A860-BDC746BA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725C-5C13-49A2-B489-42381C2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FB22A-EC02-4761-BF0F-2DA45FB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419A2-8D72-4553-A488-853A594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676-22B5-4CF0-8304-411670A8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DB67B-D92F-4F1E-B109-0E1F6024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C660D-97E5-4EE3-822A-96A054AE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617B0-A510-4DDD-ACC5-271914C3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515A-D581-407D-BB2E-05F5EA27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2EAB-5AD8-47D7-8756-9360C5A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DA0B9-6520-4E6B-A12F-B13D2E3F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D15A8-8559-4917-84AB-4D64FF1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1D01-91E3-41A6-9F6F-8DA2097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D4013-2B5B-478A-BDA9-D48E8B08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9290-9634-42AE-924A-E0F66A7C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E86-94B9-4FA9-8992-AC852BB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74A4-C372-401A-92B3-099CAE4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BF942-F445-4387-93AF-443757E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3B6CD-116F-4E94-BBBF-A5BC258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24DE6-90D5-46C8-BC14-116AB384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0B4F-988E-431E-B4B5-096A8E98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50219-FE74-4A41-87FB-5FEF5223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FB9EE-7E88-409B-8455-5FC904E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6970B-284B-4A31-B2E1-C6B4A72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F29D5-5B6E-4FC8-973C-FEBB8863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5D838-09AF-4DE8-AF78-4EBFDC5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02A-4C0C-46C3-ADFE-566B2FD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978AD-C4D5-4248-B71A-EA266F6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CF7C7-46C7-4AE8-93BC-30CA0CC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0A67B-A513-48D9-9BD3-3575990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FCC81-FDF7-443C-8BAF-40E7243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B4FDA-BAD2-400C-9F27-12B6B15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8143B-71EE-4338-AE81-A8948901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B1C77-33C6-4BD7-96C0-91F850D3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CE7-B2F5-4522-B75D-E320202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ED8-9D9B-4A28-BF5D-58DFF73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D8B-6866-43DC-B533-F41B3C8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27B-0E47-4669-B2AE-3DCE3AD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755-1768-4F8A-8A44-436C18F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A40-6241-49ED-AD91-CA45255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522-D2C0-4E3C-A6A1-CE38A620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106-C8FF-4A79-AF0F-EF684FA2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260-B555-457B-9BA3-AE97DF0B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8976-28E5-47D5-81F1-226D394A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23B-C9F4-4A72-BC87-0336A73A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338-BB2C-4BD1-977F-554DFA5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C96-0A91-4544-A77E-C7C0964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838-9ECA-4B71-9929-32350679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14BB-8A5E-422B-835F-86457B1E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FE63-CE81-4568-9362-C306832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DE6-5DB7-4DAF-BE95-7FEA2ED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2906-8707-46FD-A49F-4921E8B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D171-E54B-438E-A6DA-53E7ED7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049-E6DF-4331-8ABE-8D6F8341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2AC7-D378-4FDD-B8A7-A9CD04E0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D1E0-B5D0-43CD-A721-56916E82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06BB-EC34-4BF5-9B42-2F55E4D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F806-E3C8-46F1-8DFA-3C45CC1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8F9F-6EA3-4164-A61B-FC7F2DBD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4ECB-5390-49ED-8976-9E10A021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4FDE-970B-4D55-8F64-55D4D9E6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D6B3-9A5F-4BE3-A5BA-5BEFF63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3F5E-633C-4473-A236-02F9454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2419-D048-444C-A5EA-32EBBB6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17CC-4024-4857-A8F3-B71BC55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2100-E1A8-4AEA-B994-7C65B08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6A63-FE65-4AE3-9E26-0CEB6F0F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11E9-5FD6-41A5-B41B-E9989DF4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8B82-6A8F-4CF1-A7EC-71B808C1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709C-2906-4E3F-A1BC-75311FE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3E97-448C-4128-9B4D-6895AF4C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67D6-FFAC-45F1-B65E-E61C4493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44FB-FCC7-49CE-B562-007FCDB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7F42-BE8B-4FA1-B682-DCBE27D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81B1-4266-4586-8A19-4AABC5E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7E53-FA25-463A-B0C5-AF2BF62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1C46-8348-4F79-9A91-B0234A2B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C8BA-F7BD-4EB5-ABAE-24DDBA25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EF97-DB21-4A4B-BBA7-93C6B249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FD7B-4D3B-4FCF-AAD1-6FC0DB21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F220-997B-4AEA-965F-5B651DE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7544-70DA-4970-8AAA-D7BF3EC3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1501-9460-4CB4-805B-9169588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14A4-2F3E-4762-A7C9-3278BBC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BDDE6-00F6-4563-80F5-55F40A26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CFB4-AE7C-4EA0-AE5D-202F775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00D4-472F-4FB8-B13D-4A354F6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5E68-C17A-47FB-874D-73DE6D8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D329-4881-492C-BDBE-15CF8DD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64DB-AB89-4462-9594-90119BC2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8A52-200A-4667-886F-997C19F9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7101-391F-4B79-84DA-34290B75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88B3-EC3C-4A95-A23E-9BE3B18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E875-1818-4DF0-BA34-C1A8E05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64F48-4944-4A77-AE14-9A03680E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40B6-3136-4917-A397-9CE2FAC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E28A2-DFD7-4095-8537-06D77AE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C1E9-921E-43C6-9DC8-078C300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BE9A-25C3-4CA4-936E-BD200D0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B8D9-77D6-43A9-82D1-AE61BAA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070E-07DA-4530-AA9B-6525FD8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20A86-FEA6-4190-BEFC-5A19F560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2C63-3208-443B-8089-A167B20F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28F0F-372B-4201-A7E3-20AC15BA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8E93-AA32-416C-B5EC-21AF42E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461DA-D0BD-48FD-83E1-9D633AFF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578D6-19A1-4A7A-A289-FFFE507B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4E93-0BBD-4D32-AE2F-54BAB89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24CB-958E-4796-A2E9-12A83DB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CC26-BFB8-4F25-B6D6-2A23C6E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F55F-2F25-48F0-866D-1DC4421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EFB34-129D-4D13-A375-6DA4352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E7FD-8C5A-47B3-83AA-4C9BD7A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F98B-AEA1-42E0-B363-2A011D61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622C8-A0B3-4ED3-8260-975E39B0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2E5B4-F90A-42EC-8248-AA82B890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94838-8964-4377-8060-855ADB2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9536-7604-4F07-9A10-245420DA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677-5894-4474-8BE8-96E1EA640E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C84-C8CA-4BA7-B762-5006D2D78D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014-BA00-4D02-8E7B-A13961B4D2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5838-7204-4283-A0A4-9014757A9E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575D-B86A-44A1-BB9D-1DDCBD6C34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44E-3BD1-476A-8952-B04AADCF85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5AB-71A4-4C96-A5A8-E3DB3383CD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63E1-AE69-404D-A42B-428218EE60C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823-DB67-4E04-AEAF-D9C7FF42CC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0EAF-033A-48B0-B248-657243EDF7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06A-7DD5-47F8-965E-52499B0F12E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9E20-AD83-40D6-BFE0-01D3DAA8DF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5002200"/>
              <a:gd name="textAreaBottom" fmla="*/ 5002560 h 5002200"/>
            </a:gdLst>
            <a:ahLst/>
            <a:rect l="textAreaLeft" t="textAreaTop" r="textAreaRight" b="textAreaBottom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5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365120" y="335448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城市轨道交通行车组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3967200" y="4192560"/>
            <a:ext cx="44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车辆段行车组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5657760" y="201456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项目</a:t>
            </a:r>
            <a:r>
              <a:rPr b="0" lang="en-US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车辆段检修设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22"/>
          <p:cNvSpPr/>
          <p:nvPr/>
        </p:nvSpPr>
        <p:spPr>
          <a:xfrm flipV="1">
            <a:off x="1284120" y="1473120"/>
            <a:ext cx="9210960" cy="129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4" name="组合 5"/>
          <p:cNvGrpSpPr/>
          <p:nvPr/>
        </p:nvGrpSpPr>
        <p:grpSpPr>
          <a:xfrm>
            <a:off x="841320" y="2146320"/>
            <a:ext cx="2859120" cy="4184640"/>
            <a:chOff x="841320" y="2146320"/>
            <a:chExt cx="2859120" cy="4184640"/>
          </a:xfrm>
        </p:grpSpPr>
        <p:sp>
          <p:nvSpPr>
            <p:cNvPr id="625" name="圆角矩形 4"/>
            <p:cNvSpPr/>
            <p:nvPr/>
          </p:nvSpPr>
          <p:spPr>
            <a:xfrm>
              <a:off x="926640" y="2146320"/>
              <a:ext cx="2773800" cy="4184640"/>
            </a:xfrm>
            <a:custGeom>
              <a:avLst/>
              <a:gdLst>
                <a:gd name="textAreaLeft" fmla="*/ 44640 w 2773800"/>
                <a:gd name="textAreaRight" fmla="*/ 2729160 w 277380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585">
                  <a:moveTo>
                    <a:pt x="1194" y="0"/>
                  </a:moveTo>
                  <a:arcTo wR="1194" hR="1194" stAng="16200000" swAng="-5400000"/>
                  <a:lnTo>
                    <a:pt x="0" y="31391"/>
                  </a:lnTo>
                  <a:arcTo wR="1194" hR="1194" stAng="10800000" swAng="-5400000"/>
                  <a:lnTo>
                    <a:pt x="20406" y="3258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文本框 18"/>
            <p:cNvSpPr/>
            <p:nvPr/>
          </p:nvSpPr>
          <p:spPr>
            <a:xfrm>
              <a:off x="841320" y="2308680"/>
              <a:ext cx="277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升降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直接连接符 27"/>
            <p:cNvSpPr/>
            <p:nvPr/>
          </p:nvSpPr>
          <p:spPr>
            <a:xfrm flipV="1">
              <a:off x="1018800" y="2769120"/>
              <a:ext cx="258912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文本框 31"/>
            <p:cNvSpPr/>
            <p:nvPr/>
          </p:nvSpPr>
          <p:spPr>
            <a:xfrm>
              <a:off x="1027440" y="2935080"/>
              <a:ext cx="258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架车机、落轮升降台等；架车机用于同时同步提升多节不解构的列车单元组，以方便对列车车体下部的机械、电气部件进行维修、保养和更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9" name="Picture 2" descr="Q~C}YKWQX9I3P[AS86LQFR0"/>
          <p:cNvPicPr/>
          <p:nvPr/>
        </p:nvPicPr>
        <p:blipFill>
          <a:blip r:embed="rId1"/>
          <a:stretch/>
        </p:blipFill>
        <p:spPr>
          <a:xfrm>
            <a:off x="4251240" y="2146320"/>
            <a:ext cx="45133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车辆段检修设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接连接符 22"/>
          <p:cNvSpPr/>
          <p:nvPr/>
        </p:nvSpPr>
        <p:spPr>
          <a:xfrm flipV="1">
            <a:off x="1284120" y="1473120"/>
            <a:ext cx="9210960" cy="129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3" name="组合 5"/>
          <p:cNvGrpSpPr/>
          <p:nvPr/>
        </p:nvGrpSpPr>
        <p:grpSpPr>
          <a:xfrm>
            <a:off x="944640" y="2103480"/>
            <a:ext cx="2206440" cy="3327480"/>
            <a:chOff x="944640" y="2103480"/>
            <a:chExt cx="2206440" cy="3327480"/>
          </a:xfrm>
        </p:grpSpPr>
        <p:sp>
          <p:nvSpPr>
            <p:cNvPr id="634" name="圆角矩形 4"/>
            <p:cNvSpPr/>
            <p:nvPr/>
          </p:nvSpPr>
          <p:spPr>
            <a:xfrm>
              <a:off x="1010160" y="21034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8"/>
            <p:cNvSpPr/>
            <p:nvPr/>
          </p:nvSpPr>
          <p:spPr>
            <a:xfrm>
              <a:off x="944640" y="22323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清洗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直接连接符 27"/>
            <p:cNvSpPr/>
            <p:nvPr/>
          </p:nvSpPr>
          <p:spPr>
            <a:xfrm flipV="1">
              <a:off x="1081440" y="25984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文本框 31"/>
            <p:cNvSpPr/>
            <p:nvPr/>
          </p:nvSpPr>
          <p:spPr>
            <a:xfrm>
              <a:off x="1088280" y="2730600"/>
              <a:ext cx="199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洗车机、转向架冲洗机、各种高压冲洗机、超声波洗涤剂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5"/>
          <p:cNvGrpSpPr/>
          <p:nvPr/>
        </p:nvGrpSpPr>
        <p:grpSpPr>
          <a:xfrm>
            <a:off x="3559320" y="2003400"/>
            <a:ext cx="2857320" cy="4184640"/>
            <a:chOff x="3559320" y="2003400"/>
            <a:chExt cx="2857320" cy="4184640"/>
          </a:xfrm>
        </p:grpSpPr>
        <p:sp>
          <p:nvSpPr>
            <p:cNvPr id="639" name="圆角矩形 4"/>
            <p:cNvSpPr/>
            <p:nvPr/>
          </p:nvSpPr>
          <p:spPr>
            <a:xfrm>
              <a:off x="3644280" y="2003400"/>
              <a:ext cx="2772360" cy="4184640"/>
            </a:xfrm>
            <a:custGeom>
              <a:avLst/>
              <a:gdLst>
                <a:gd name="textAreaLeft" fmla="*/ 44640 w 2772360"/>
                <a:gd name="textAreaRight" fmla="*/ 2727720 w 277236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602">
                  <a:moveTo>
                    <a:pt x="1194" y="0"/>
                  </a:moveTo>
                  <a:arcTo wR="1194" hR="1194" stAng="16200000" swAng="-5400000"/>
                  <a:lnTo>
                    <a:pt x="0" y="31408"/>
                  </a:lnTo>
                  <a:arcTo wR="1194" hR="1194" stAng="10800000" swAng="-5400000"/>
                  <a:lnTo>
                    <a:pt x="20406" y="32602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文本框 18"/>
            <p:cNvSpPr/>
            <p:nvPr/>
          </p:nvSpPr>
          <p:spPr>
            <a:xfrm>
              <a:off x="3559320" y="2165760"/>
              <a:ext cx="27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修理加工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直接连接符 27"/>
            <p:cNvSpPr/>
            <p:nvPr/>
          </p:nvSpPr>
          <p:spPr>
            <a:xfrm flipV="1">
              <a:off x="3736800" y="2626200"/>
              <a:ext cx="258768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文本框 31"/>
            <p:cNvSpPr/>
            <p:nvPr/>
          </p:nvSpPr>
          <p:spPr>
            <a:xfrm>
              <a:off x="3745440" y="2792160"/>
              <a:ext cx="258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不落轮镟床、绝对压装机、整流子下刻焊接机、轨道打磨机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组合 5"/>
          <p:cNvGrpSpPr/>
          <p:nvPr/>
        </p:nvGrpSpPr>
        <p:grpSpPr>
          <a:xfrm>
            <a:off x="6926400" y="2103480"/>
            <a:ext cx="2206440" cy="3327480"/>
            <a:chOff x="6926400" y="2103480"/>
            <a:chExt cx="2206440" cy="3327480"/>
          </a:xfrm>
        </p:grpSpPr>
        <p:sp>
          <p:nvSpPr>
            <p:cNvPr id="644" name="圆角矩形 4"/>
            <p:cNvSpPr/>
            <p:nvPr/>
          </p:nvSpPr>
          <p:spPr>
            <a:xfrm>
              <a:off x="6991920" y="21034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>
              <a:off x="6926400" y="22323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检测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直接连接符 27"/>
            <p:cNvSpPr/>
            <p:nvPr/>
          </p:nvSpPr>
          <p:spPr>
            <a:xfrm flipV="1">
              <a:off x="7063200" y="25984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文本框 31"/>
            <p:cNvSpPr/>
            <p:nvPr/>
          </p:nvSpPr>
          <p:spPr>
            <a:xfrm>
              <a:off x="7070040" y="2730600"/>
              <a:ext cx="199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超声波轮对探伤仪、轮缘轮距测量仪、车门驱动空气压力测量装置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组合 5"/>
          <p:cNvGrpSpPr/>
          <p:nvPr/>
        </p:nvGrpSpPr>
        <p:grpSpPr>
          <a:xfrm>
            <a:off x="9577440" y="2395440"/>
            <a:ext cx="2206440" cy="3327480"/>
            <a:chOff x="9577440" y="2395440"/>
            <a:chExt cx="2206440" cy="3327480"/>
          </a:xfrm>
        </p:grpSpPr>
        <p:sp>
          <p:nvSpPr>
            <p:cNvPr id="649" name="圆角矩形 4"/>
            <p:cNvSpPr/>
            <p:nvPr/>
          </p:nvSpPr>
          <p:spPr>
            <a:xfrm>
              <a:off x="9642960" y="239544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文本框 23"/>
            <p:cNvSpPr/>
            <p:nvPr/>
          </p:nvSpPr>
          <p:spPr>
            <a:xfrm>
              <a:off x="9577440" y="252432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试验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直接连接符 27"/>
            <p:cNvSpPr/>
            <p:nvPr/>
          </p:nvSpPr>
          <p:spPr>
            <a:xfrm flipV="1">
              <a:off x="9714240" y="289044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文本框 31"/>
            <p:cNvSpPr/>
            <p:nvPr/>
          </p:nvSpPr>
          <p:spPr>
            <a:xfrm>
              <a:off x="9642960" y="3080160"/>
              <a:ext cx="199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列车静调试验台、转向架试验台等各种试验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文本框 3"/>
          <p:cNvSpPr/>
          <p:nvPr/>
        </p:nvSpPr>
        <p:spPr>
          <a:xfrm>
            <a:off x="2021040" y="40878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车辆段行车作业组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5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2322360"/>
              <a:gd name="textAreaBottom" fmla="*/ 2322720 h 2322360"/>
            </a:gdLst>
            <a:ahLst/>
            <a:rect l="textAreaLeft" t="textAreaTop" r="textAreaRight" b="textAreaBottom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>
              <a:gd name="textAreaLeft" fmla="*/ 0 w 2685960"/>
              <a:gd name="textAreaRight" fmla="*/ 2686320 w 2685960"/>
              <a:gd name="textAreaTop" fmla="*/ 0 h 2685960"/>
              <a:gd name="textAreaBottom" fmla="*/ 2686320 h 2685960"/>
            </a:gdLst>
            <a:ahLst/>
            <a:rect l="textAreaLeft" t="textAreaTop" r="textAreaRight" b="textAreaBottom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组合 1"/>
          <p:cNvGrpSpPr/>
          <p:nvPr/>
        </p:nvGrpSpPr>
        <p:grpSpPr>
          <a:xfrm>
            <a:off x="6113520" y="5199120"/>
            <a:ext cx="390600" cy="117360"/>
            <a:chOff x="6113520" y="5199120"/>
            <a:chExt cx="390600" cy="117360"/>
          </a:xfrm>
        </p:grpSpPr>
        <p:sp>
          <p:nvSpPr>
            <p:cNvPr id="662" name="椭圆 11"/>
            <p:cNvSpPr/>
            <p:nvPr/>
          </p:nvSpPr>
          <p:spPr>
            <a:xfrm flipH="1">
              <a:off x="6113520" y="5199120"/>
              <a:ext cx="117360" cy="117360"/>
            </a:xfrm>
            <a:prstGeom prst="ellipse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椭圆 12"/>
            <p:cNvSpPr/>
            <p:nvPr/>
          </p:nvSpPr>
          <p:spPr>
            <a:xfrm flipH="1">
              <a:off x="6386760" y="5199120"/>
              <a:ext cx="117360" cy="117360"/>
            </a:xfrm>
            <a:prstGeom prst="ellipse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椭圆 14"/>
          <p:cNvSpPr/>
          <p:nvPr/>
        </p:nvSpPr>
        <p:spPr>
          <a:xfrm flipH="1">
            <a:off x="6635880" y="5170320"/>
            <a:ext cx="13464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椭圆 12"/>
          <p:cNvSpPr/>
          <p:nvPr/>
        </p:nvSpPr>
        <p:spPr>
          <a:xfrm flipH="1">
            <a:off x="6904800" y="5180040"/>
            <a:ext cx="13500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车辆段的行车指挥架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1"/>
          <p:cNvSpPr/>
          <p:nvPr/>
        </p:nvSpPr>
        <p:spPr>
          <a:xfrm>
            <a:off x="1382760" y="2028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内的行车组织工作应按照“统一指挥、逐级负责”的原则进行，由车辆段内的车场调度员统一指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图片 2" descr=""/>
          <p:cNvPicPr/>
          <p:nvPr/>
        </p:nvPicPr>
        <p:blipFill>
          <a:blip r:embed="rId1"/>
          <a:stretch/>
        </p:blipFill>
        <p:spPr>
          <a:xfrm>
            <a:off x="4262400" y="2962440"/>
            <a:ext cx="7529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5"/>
          <p:cNvGrpSpPr/>
          <p:nvPr/>
        </p:nvGrpSpPr>
        <p:grpSpPr>
          <a:xfrm>
            <a:off x="214200" y="2030400"/>
            <a:ext cx="10617480" cy="1725480"/>
            <a:chOff x="214200" y="2030400"/>
            <a:chExt cx="10617480" cy="1725480"/>
          </a:xfrm>
        </p:grpSpPr>
        <p:sp>
          <p:nvSpPr>
            <p:cNvPr id="677" name="圆角矩形 4"/>
            <p:cNvSpPr/>
            <p:nvPr/>
          </p:nvSpPr>
          <p:spPr>
            <a:xfrm>
              <a:off x="769320" y="2711880"/>
              <a:ext cx="10062360" cy="104400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文本框 18"/>
            <p:cNvSpPr/>
            <p:nvPr/>
          </p:nvSpPr>
          <p:spPr>
            <a:xfrm>
              <a:off x="214200" y="2030400"/>
              <a:ext cx="496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车辆段行车作业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文本框 31"/>
            <p:cNvSpPr/>
            <p:nvPr/>
          </p:nvSpPr>
          <p:spPr>
            <a:xfrm>
              <a:off x="944280" y="2880000"/>
              <a:ext cx="988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负责所辖各运行线路内的电动列车运行、整修、整备任务，确保上线运营和列车状态良好。确保上线运营列车准点出厂、回库，能顺利进行运行列车的调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圆角矩形 4"/>
          <p:cNvSpPr/>
          <p:nvPr/>
        </p:nvSpPr>
        <p:spPr>
          <a:xfrm>
            <a:off x="770040" y="3902040"/>
            <a:ext cx="10061640" cy="725400"/>
          </a:xfrm>
          <a:prstGeom prst="roundRect">
            <a:avLst>
              <a:gd name="adj" fmla="val 5528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31"/>
          <p:cNvSpPr/>
          <p:nvPr/>
        </p:nvSpPr>
        <p:spPr>
          <a:xfrm>
            <a:off x="944640" y="4070520"/>
            <a:ext cx="98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配合维修人员完成列车的保养、维修、调试等工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1"/>
          <p:cNvGrpSpPr/>
          <p:nvPr/>
        </p:nvGrpSpPr>
        <p:grpSpPr>
          <a:xfrm>
            <a:off x="770040" y="4795920"/>
            <a:ext cx="10061640" cy="835560"/>
            <a:chOff x="770040" y="4795920"/>
            <a:chExt cx="10061640" cy="835560"/>
          </a:xfrm>
        </p:grpSpPr>
        <p:sp>
          <p:nvSpPr>
            <p:cNvPr id="683" name="圆角矩形 4"/>
            <p:cNvSpPr/>
            <p:nvPr/>
          </p:nvSpPr>
          <p:spPr>
            <a:xfrm>
              <a:off x="770040" y="4795920"/>
              <a:ext cx="10061640" cy="7261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文本框 31"/>
            <p:cNvSpPr/>
            <p:nvPr/>
          </p:nvSpPr>
          <p:spPr>
            <a:xfrm>
              <a:off x="944640" y="4927680"/>
              <a:ext cx="988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安排场内调车作业及正线开行施工列车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组合 22"/>
          <p:cNvGrpSpPr/>
          <p:nvPr/>
        </p:nvGrpSpPr>
        <p:grpSpPr>
          <a:xfrm>
            <a:off x="770040" y="5767560"/>
            <a:ext cx="10061640" cy="725400"/>
            <a:chOff x="770040" y="5767560"/>
            <a:chExt cx="10061640" cy="725400"/>
          </a:xfrm>
        </p:grpSpPr>
        <p:sp>
          <p:nvSpPr>
            <p:cNvPr id="686" name="圆角矩形 4"/>
            <p:cNvSpPr/>
            <p:nvPr/>
          </p:nvSpPr>
          <p:spPr>
            <a:xfrm>
              <a:off x="770040" y="5767560"/>
              <a:ext cx="10061640" cy="72540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文本框 31"/>
            <p:cNvSpPr/>
            <p:nvPr/>
          </p:nvSpPr>
          <p:spPr>
            <a:xfrm>
              <a:off x="944640" y="5899320"/>
              <a:ext cx="98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协调场内各专业技术工种在规定界面的施工技术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8"/>
          <p:cNvSpPr/>
          <p:nvPr/>
        </p:nvSpPr>
        <p:spPr>
          <a:xfrm>
            <a:off x="469800" y="1965240"/>
            <a:ext cx="49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熟悉车辆段内的列车运转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3"/>
          <p:cNvSpPr/>
          <p:nvPr/>
        </p:nvSpPr>
        <p:spPr>
          <a:xfrm>
            <a:off x="6161040" y="2573280"/>
            <a:ext cx="2320920" cy="4651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出车作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6222960" y="3567240"/>
            <a:ext cx="2320920" cy="4651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线运营作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25"/>
          <p:cNvSpPr/>
          <p:nvPr/>
        </p:nvSpPr>
        <p:spPr>
          <a:xfrm>
            <a:off x="6222960" y="4638600"/>
            <a:ext cx="2320920" cy="4636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收车作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26"/>
          <p:cNvSpPr/>
          <p:nvPr/>
        </p:nvSpPr>
        <p:spPr>
          <a:xfrm>
            <a:off x="6222960" y="5794200"/>
            <a:ext cx="2320920" cy="4636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整备作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直接箭头连接符 5"/>
          <p:cNvCxnSpPr>
            <a:stCxn id="692" idx="2"/>
          </p:cNvCxnSpPr>
          <p:nvPr/>
        </p:nvCxnSpPr>
        <p:spPr>
          <a:xfrm flipH="1">
            <a:off x="7320960" y="3038040"/>
            <a:ext cx="10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直接箭头连接符 13"/>
          <p:cNvCxnSpPr>
            <a:stCxn id="693" idx="2"/>
            <a:endCxn id="694" idx="0"/>
          </p:cNvCxnSpPr>
          <p:nvPr/>
        </p:nvCxnSpPr>
        <p:spPr>
          <a:xfrm>
            <a:off x="7383240" y="4032360"/>
            <a:ext cx="108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直接箭头连接符 15"/>
          <p:cNvCxnSpPr>
            <a:stCxn id="694" idx="2"/>
            <a:endCxn id="695" idx="0"/>
          </p:cNvCxnSpPr>
          <p:nvPr/>
        </p:nvCxnSpPr>
        <p:spPr>
          <a:xfrm>
            <a:off x="7383240" y="5102280"/>
            <a:ext cx="108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直接连接符 27648"/>
          <p:cNvSpPr/>
          <p:nvPr/>
        </p:nvSpPr>
        <p:spPr>
          <a:xfrm>
            <a:off x="8543880" y="6026040"/>
            <a:ext cx="7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27656"/>
          <p:cNvSpPr/>
          <p:nvPr/>
        </p:nvSpPr>
        <p:spPr>
          <a:xfrm flipH="1" flipV="1">
            <a:off x="9282240" y="2806200"/>
            <a:ext cx="1440" cy="321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1" name="直接箭头连接符 27659"/>
          <p:cNvCxnSpPr>
            <a:endCxn id="692" idx="3"/>
          </p:cNvCxnSpPr>
          <p:nvPr/>
        </p:nvCxnSpPr>
        <p:spPr>
          <a:xfrm flipH="1">
            <a:off x="8481240" y="2806200"/>
            <a:ext cx="80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矩形 27660"/>
          <p:cNvSpPr/>
          <p:nvPr/>
        </p:nvSpPr>
        <p:spPr>
          <a:xfrm>
            <a:off x="944640" y="2806560"/>
            <a:ext cx="44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在车辆段内的运转流程主要包括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环节，分别是列车出车作业、正线运营作业、列车收车作业、列车整备作业，如图所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1096920" y="19335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列车出车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7" name="组合 5"/>
          <p:cNvGrpSpPr/>
          <p:nvPr/>
        </p:nvGrpSpPr>
        <p:grpSpPr>
          <a:xfrm>
            <a:off x="1382760" y="2693880"/>
            <a:ext cx="2206440" cy="3327480"/>
            <a:chOff x="1382760" y="2693880"/>
            <a:chExt cx="2206440" cy="3327480"/>
          </a:xfrm>
        </p:grpSpPr>
        <p:sp>
          <p:nvSpPr>
            <p:cNvPr id="708" name="圆角矩形 4"/>
            <p:cNvSpPr/>
            <p:nvPr/>
          </p:nvSpPr>
          <p:spPr>
            <a:xfrm>
              <a:off x="1448280" y="26938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文本框 18"/>
            <p:cNvSpPr/>
            <p:nvPr/>
          </p:nvSpPr>
          <p:spPr>
            <a:xfrm>
              <a:off x="1382760" y="27525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编制发车计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接连接符 27"/>
            <p:cNvSpPr/>
            <p:nvPr/>
          </p:nvSpPr>
          <p:spPr>
            <a:xfrm flipV="1">
              <a:off x="1519560" y="31888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文本框 31"/>
            <p:cNvSpPr/>
            <p:nvPr/>
          </p:nvSpPr>
          <p:spPr>
            <a:xfrm>
              <a:off x="1526400" y="3321000"/>
              <a:ext cx="19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车场调度员根据列车运营图、运营检修用车安排、车场线路存车情况等编制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2" name="组合 5"/>
          <p:cNvGrpSpPr/>
          <p:nvPr/>
        </p:nvGrpSpPr>
        <p:grpSpPr>
          <a:xfrm>
            <a:off x="4602240" y="2693880"/>
            <a:ext cx="2206440" cy="3327480"/>
            <a:chOff x="4602240" y="2693880"/>
            <a:chExt cx="2206440" cy="3327480"/>
          </a:xfrm>
        </p:grpSpPr>
        <p:sp>
          <p:nvSpPr>
            <p:cNvPr id="713" name="圆角矩形 4"/>
            <p:cNvSpPr/>
            <p:nvPr/>
          </p:nvSpPr>
          <p:spPr>
            <a:xfrm>
              <a:off x="4667760" y="26938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24"/>
            <p:cNvSpPr/>
            <p:nvPr/>
          </p:nvSpPr>
          <p:spPr>
            <a:xfrm>
              <a:off x="4602240" y="27525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司机出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7"/>
            <p:cNvSpPr/>
            <p:nvPr/>
          </p:nvSpPr>
          <p:spPr>
            <a:xfrm flipV="1">
              <a:off x="4739040" y="31888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文本框 31"/>
            <p:cNvSpPr/>
            <p:nvPr/>
          </p:nvSpPr>
          <p:spPr>
            <a:xfrm>
              <a:off x="4745880" y="3321000"/>
              <a:ext cx="19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车次、车号、停车股道；②区间有无施工；③限速要求；④其他行车注意事项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5"/>
          <p:cNvGrpSpPr/>
          <p:nvPr/>
        </p:nvGrpSpPr>
        <p:grpSpPr>
          <a:xfrm>
            <a:off x="7821720" y="2709720"/>
            <a:ext cx="2925720" cy="3327480"/>
            <a:chOff x="7821720" y="2709720"/>
            <a:chExt cx="2925720" cy="3327480"/>
          </a:xfrm>
        </p:grpSpPr>
        <p:sp>
          <p:nvSpPr>
            <p:cNvPr id="718" name="圆角矩形 4"/>
            <p:cNvSpPr/>
            <p:nvPr/>
          </p:nvSpPr>
          <p:spPr>
            <a:xfrm>
              <a:off x="7908840" y="2709720"/>
              <a:ext cx="2838600" cy="3327480"/>
            </a:xfrm>
            <a:custGeom>
              <a:avLst/>
              <a:gdLst>
                <a:gd name="textAreaLeft" fmla="*/ 45720 w 2838600"/>
                <a:gd name="textAreaRight" fmla="*/ 2792880 w 2838600"/>
                <a:gd name="textAreaTop" fmla="*/ 45720 h 3327480"/>
                <a:gd name="textAreaBottom" fmla="*/ 3281760 h 3327480"/>
              </a:gdLst>
              <a:ahLst/>
              <a:rect l="textAreaLeft" t="textAreaTop" r="textAreaRight" b="textAreaBottom"/>
              <a:pathLst>
                <a:path w="21600" h="25320">
                  <a:moveTo>
                    <a:pt x="1194" y="0"/>
                  </a:moveTo>
                  <a:arcTo wR="1194" hR="1194" stAng="16200000" swAng="-5400000"/>
                  <a:lnTo>
                    <a:pt x="0" y="24126"/>
                  </a:lnTo>
                  <a:arcTo wR="1194" hR="1194" stAng="10800000" swAng="-5400000"/>
                  <a:lnTo>
                    <a:pt x="20406" y="2532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文本框 31"/>
            <p:cNvSpPr/>
            <p:nvPr/>
          </p:nvSpPr>
          <p:spPr>
            <a:xfrm>
              <a:off x="7821720" y="2768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列车出库与出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27"/>
            <p:cNvSpPr/>
            <p:nvPr/>
          </p:nvSpPr>
          <p:spPr>
            <a:xfrm flipV="1">
              <a:off x="8003520" y="3204720"/>
              <a:ext cx="264960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文本框 31"/>
            <p:cNvSpPr/>
            <p:nvPr/>
          </p:nvSpPr>
          <p:spPr>
            <a:xfrm>
              <a:off x="8012160" y="3336840"/>
              <a:ext cx="264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报告信号楼值班员“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车整备作业完毕，请指示！”后，等待信号楼值班员命令，未得到出库命令时严禁动车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18"/>
          <p:cNvSpPr/>
          <p:nvPr/>
        </p:nvSpPr>
        <p:spPr>
          <a:xfrm>
            <a:off x="1096920" y="19335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正线运营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组合 5"/>
          <p:cNvGrpSpPr/>
          <p:nvPr/>
        </p:nvGrpSpPr>
        <p:grpSpPr>
          <a:xfrm>
            <a:off x="1382760" y="2693880"/>
            <a:ext cx="2206440" cy="3327480"/>
            <a:chOff x="1382760" y="2693880"/>
            <a:chExt cx="2206440" cy="3327480"/>
          </a:xfrm>
        </p:grpSpPr>
        <p:sp>
          <p:nvSpPr>
            <p:cNvPr id="727" name="圆角矩形 4"/>
            <p:cNvSpPr/>
            <p:nvPr/>
          </p:nvSpPr>
          <p:spPr>
            <a:xfrm>
              <a:off x="1448280" y="26938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文本框 18"/>
            <p:cNvSpPr/>
            <p:nvPr/>
          </p:nvSpPr>
          <p:spPr>
            <a:xfrm>
              <a:off x="1382760" y="27525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列车运行交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接连接符 27"/>
            <p:cNvSpPr/>
            <p:nvPr/>
          </p:nvSpPr>
          <p:spPr>
            <a:xfrm flipV="1">
              <a:off x="1519560" y="31888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31"/>
            <p:cNvSpPr/>
            <p:nvPr/>
          </p:nvSpPr>
          <p:spPr>
            <a:xfrm>
              <a:off x="1526400" y="3321000"/>
              <a:ext cx="19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线运行的循环交路、在两端折返的时刻、出入段时间顺序由车辆周转图规定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5"/>
          <p:cNvGrpSpPr/>
          <p:nvPr/>
        </p:nvGrpSpPr>
        <p:grpSpPr>
          <a:xfrm>
            <a:off x="4518000" y="2693880"/>
            <a:ext cx="2614680" cy="3327480"/>
            <a:chOff x="4518000" y="2693880"/>
            <a:chExt cx="2614680" cy="3327480"/>
          </a:xfrm>
        </p:grpSpPr>
        <p:sp>
          <p:nvSpPr>
            <p:cNvPr id="732" name="圆角矩形 4"/>
            <p:cNvSpPr/>
            <p:nvPr/>
          </p:nvSpPr>
          <p:spPr>
            <a:xfrm>
              <a:off x="4595760" y="2693880"/>
              <a:ext cx="2536920" cy="3327480"/>
            </a:xfrm>
            <a:custGeom>
              <a:avLst/>
              <a:gdLst>
                <a:gd name="textAreaLeft" fmla="*/ 41040 w 2536920"/>
                <a:gd name="textAreaRight" fmla="*/ 2495880 w 2536920"/>
                <a:gd name="textAreaTop" fmla="*/ 41040 h 3327480"/>
                <a:gd name="textAreaBottom" fmla="*/ 3286440 h 3327480"/>
              </a:gdLst>
              <a:ahLst/>
              <a:rect l="textAreaLeft" t="textAreaTop" r="textAreaRight" b="textAreaBottom"/>
              <a:pathLst>
                <a:path w="21600" h="28330">
                  <a:moveTo>
                    <a:pt x="1194" y="0"/>
                  </a:moveTo>
                  <a:arcTo wR="1194" hR="1194" stAng="16200000" swAng="-5400000"/>
                  <a:lnTo>
                    <a:pt x="0" y="27136"/>
                  </a:lnTo>
                  <a:arcTo wR="1194" hR="1194" stAng="10800000" swAng="-5400000"/>
                  <a:lnTo>
                    <a:pt x="20406" y="2833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文本框 24"/>
            <p:cNvSpPr/>
            <p:nvPr/>
          </p:nvSpPr>
          <p:spPr>
            <a:xfrm>
              <a:off x="4518000" y="275256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列车驾驶员作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27"/>
            <p:cNvSpPr/>
            <p:nvPr/>
          </p:nvSpPr>
          <p:spPr>
            <a:xfrm flipV="1">
              <a:off x="4680360" y="3188880"/>
              <a:ext cx="236808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文本框 31"/>
            <p:cNvSpPr/>
            <p:nvPr/>
          </p:nvSpPr>
          <p:spPr>
            <a:xfrm>
              <a:off x="4688280" y="3321000"/>
              <a:ext cx="236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禁司机违章行车，应确保行车安全和乘客安全。正司机严格按照指示操作，副司机严格按照乘务员的命令完成各项工作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6" name="组合 5"/>
          <p:cNvGrpSpPr/>
          <p:nvPr/>
        </p:nvGrpSpPr>
        <p:grpSpPr>
          <a:xfrm>
            <a:off x="7821720" y="2709720"/>
            <a:ext cx="2925720" cy="3327480"/>
            <a:chOff x="7821720" y="2709720"/>
            <a:chExt cx="2925720" cy="3327480"/>
          </a:xfrm>
        </p:grpSpPr>
        <p:sp>
          <p:nvSpPr>
            <p:cNvPr id="737" name="圆角矩形 4"/>
            <p:cNvSpPr/>
            <p:nvPr/>
          </p:nvSpPr>
          <p:spPr>
            <a:xfrm>
              <a:off x="7908840" y="2709720"/>
              <a:ext cx="2838600" cy="3327480"/>
            </a:xfrm>
            <a:custGeom>
              <a:avLst/>
              <a:gdLst>
                <a:gd name="textAreaLeft" fmla="*/ 45720 w 2838600"/>
                <a:gd name="textAreaRight" fmla="*/ 2792880 w 2838600"/>
                <a:gd name="textAreaTop" fmla="*/ 45720 h 3327480"/>
                <a:gd name="textAreaBottom" fmla="*/ 3281760 h 3327480"/>
              </a:gdLst>
              <a:ahLst/>
              <a:rect l="textAreaLeft" t="textAreaTop" r="textAreaRight" b="textAreaBottom"/>
              <a:pathLst>
                <a:path w="21600" h="25320">
                  <a:moveTo>
                    <a:pt x="1194" y="0"/>
                  </a:moveTo>
                  <a:arcTo wR="1194" hR="1194" stAng="16200000" swAng="-5400000"/>
                  <a:lnTo>
                    <a:pt x="0" y="24126"/>
                  </a:lnTo>
                  <a:arcTo wR="1194" hR="1194" stAng="10800000" swAng="-5400000"/>
                  <a:lnTo>
                    <a:pt x="20406" y="2532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文本框 31"/>
            <p:cNvSpPr/>
            <p:nvPr/>
          </p:nvSpPr>
          <p:spPr>
            <a:xfrm>
              <a:off x="7821720" y="2768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司机交接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接连接符 27"/>
            <p:cNvSpPr/>
            <p:nvPr/>
          </p:nvSpPr>
          <p:spPr>
            <a:xfrm flipV="1">
              <a:off x="8003520" y="3204720"/>
              <a:ext cx="264960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31"/>
            <p:cNvSpPr/>
            <p:nvPr/>
          </p:nvSpPr>
          <p:spPr>
            <a:xfrm>
              <a:off x="8012160" y="333684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司机应按要求出勤，需要将列车技术状态、有关行车命令、注意事项在交代清楚。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18"/>
          <p:cNvSpPr/>
          <p:nvPr/>
        </p:nvSpPr>
        <p:spPr>
          <a:xfrm>
            <a:off x="1096920" y="19335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列车收车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组合 5"/>
          <p:cNvGrpSpPr/>
          <p:nvPr/>
        </p:nvGrpSpPr>
        <p:grpSpPr>
          <a:xfrm>
            <a:off x="2514600" y="2709720"/>
            <a:ext cx="2614680" cy="3327480"/>
            <a:chOff x="2514600" y="2709720"/>
            <a:chExt cx="2614680" cy="3327480"/>
          </a:xfrm>
        </p:grpSpPr>
        <p:sp>
          <p:nvSpPr>
            <p:cNvPr id="746" name="圆角矩形 4"/>
            <p:cNvSpPr/>
            <p:nvPr/>
          </p:nvSpPr>
          <p:spPr>
            <a:xfrm>
              <a:off x="2592360" y="2709720"/>
              <a:ext cx="2536920" cy="3327480"/>
            </a:xfrm>
            <a:custGeom>
              <a:avLst/>
              <a:gdLst>
                <a:gd name="textAreaLeft" fmla="*/ 41040 w 2536920"/>
                <a:gd name="textAreaRight" fmla="*/ 2495880 w 2536920"/>
                <a:gd name="textAreaTop" fmla="*/ 41040 h 3327480"/>
                <a:gd name="textAreaBottom" fmla="*/ 3286440 h 3327480"/>
              </a:gdLst>
              <a:ahLst/>
              <a:rect l="textAreaLeft" t="textAreaTop" r="textAreaRight" b="textAreaBottom"/>
              <a:pathLst>
                <a:path w="21600" h="28330">
                  <a:moveTo>
                    <a:pt x="1194" y="0"/>
                  </a:moveTo>
                  <a:arcTo wR="1194" hR="1194" stAng="16200000" swAng="-5400000"/>
                  <a:lnTo>
                    <a:pt x="0" y="27136"/>
                  </a:lnTo>
                  <a:arcTo wR="1194" hR="1194" stAng="10800000" swAng="-5400000"/>
                  <a:lnTo>
                    <a:pt x="20406" y="2833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文本框 24"/>
            <p:cNvSpPr/>
            <p:nvPr/>
          </p:nvSpPr>
          <p:spPr>
            <a:xfrm>
              <a:off x="2514600" y="276840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列车入段与入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接连接符 27"/>
            <p:cNvSpPr/>
            <p:nvPr/>
          </p:nvSpPr>
          <p:spPr>
            <a:xfrm flipV="1">
              <a:off x="2676960" y="3204720"/>
              <a:ext cx="236808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31"/>
            <p:cNvSpPr/>
            <p:nvPr/>
          </p:nvSpPr>
          <p:spPr>
            <a:xfrm>
              <a:off x="2684880" y="3336840"/>
              <a:ext cx="236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常情况下，列车入段与入库时通过入车线回段。在行车调度员准许的情况下，也可在出库线入段。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5"/>
          <p:cNvGrpSpPr/>
          <p:nvPr/>
        </p:nvGrpSpPr>
        <p:grpSpPr>
          <a:xfrm>
            <a:off x="6611760" y="2709720"/>
            <a:ext cx="2926080" cy="3327480"/>
            <a:chOff x="6611760" y="2709720"/>
            <a:chExt cx="2926080" cy="3327480"/>
          </a:xfrm>
        </p:grpSpPr>
        <p:sp>
          <p:nvSpPr>
            <p:cNvPr id="751" name="圆角矩形 4"/>
            <p:cNvSpPr/>
            <p:nvPr/>
          </p:nvSpPr>
          <p:spPr>
            <a:xfrm>
              <a:off x="6698880" y="2709720"/>
              <a:ext cx="2838960" cy="3327480"/>
            </a:xfrm>
            <a:custGeom>
              <a:avLst/>
              <a:gdLst>
                <a:gd name="textAreaLeft" fmla="*/ 45720 w 2838960"/>
                <a:gd name="textAreaRight" fmla="*/ 2793240 w 2838960"/>
                <a:gd name="textAreaTop" fmla="*/ 45720 h 3327480"/>
                <a:gd name="textAreaBottom" fmla="*/ 3281760 h 3327480"/>
              </a:gdLst>
              <a:ahLst/>
              <a:rect l="textAreaLeft" t="textAreaTop" r="textAreaRight" b="textAreaBottom"/>
              <a:pathLst>
                <a:path w="21600" h="25316">
                  <a:moveTo>
                    <a:pt x="1194" y="0"/>
                  </a:moveTo>
                  <a:arcTo wR="1194" hR="1194" stAng="16200000" swAng="-5400000"/>
                  <a:lnTo>
                    <a:pt x="0" y="24122"/>
                  </a:lnTo>
                  <a:arcTo wR="1194" hR="1194" stAng="10800000" swAng="-5400000"/>
                  <a:lnTo>
                    <a:pt x="20406" y="25316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31"/>
            <p:cNvSpPr/>
            <p:nvPr/>
          </p:nvSpPr>
          <p:spPr>
            <a:xfrm>
              <a:off x="6611760" y="2768400"/>
              <a:ext cx="284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库内作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27"/>
            <p:cNvSpPr/>
            <p:nvPr/>
          </p:nvSpPr>
          <p:spPr>
            <a:xfrm flipV="1">
              <a:off x="6793560" y="3204720"/>
              <a:ext cx="26499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文本框 31"/>
            <p:cNvSpPr/>
            <p:nvPr/>
          </p:nvSpPr>
          <p:spPr>
            <a:xfrm>
              <a:off x="6802200" y="3336840"/>
              <a:ext cx="26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司机对其进行检查，确认无异常情况后，带齐相关报单，办理退勤手续。若发现列车技术不良，则应报值班员，并做好相关记录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行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18"/>
          <p:cNvSpPr/>
          <p:nvPr/>
        </p:nvSpPr>
        <p:spPr>
          <a:xfrm>
            <a:off x="1096920" y="19335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列车整备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组合 5"/>
          <p:cNvGrpSpPr/>
          <p:nvPr/>
        </p:nvGrpSpPr>
        <p:grpSpPr>
          <a:xfrm>
            <a:off x="1382760" y="2693880"/>
            <a:ext cx="2206440" cy="3327480"/>
            <a:chOff x="1382760" y="2693880"/>
            <a:chExt cx="2206440" cy="3327480"/>
          </a:xfrm>
        </p:grpSpPr>
        <p:sp>
          <p:nvSpPr>
            <p:cNvPr id="760" name="圆角矩形 4"/>
            <p:cNvSpPr/>
            <p:nvPr/>
          </p:nvSpPr>
          <p:spPr>
            <a:xfrm>
              <a:off x="1448280" y="2693880"/>
              <a:ext cx="2140920" cy="3327480"/>
            </a:xfrm>
            <a:custGeom>
              <a:avLst/>
              <a:gdLst>
                <a:gd name="textAreaLeft" fmla="*/ 34560 w 2140920"/>
                <a:gd name="textAreaRight" fmla="*/ 2106360 w 2140920"/>
                <a:gd name="textAreaTop" fmla="*/ 34560 h 3327480"/>
                <a:gd name="textAreaBottom" fmla="*/ 3292920 h 3327480"/>
              </a:gdLst>
              <a:ahLst/>
              <a:rect l="textAreaLeft" t="textAreaTop" r="textAreaRight" b="textAreaBottom"/>
              <a:pathLst>
                <a:path w="21600" h="33569">
                  <a:moveTo>
                    <a:pt x="1194" y="0"/>
                  </a:moveTo>
                  <a:arcTo wR="1194" hR="1194" stAng="16200000" swAng="-5400000"/>
                  <a:lnTo>
                    <a:pt x="0" y="32375"/>
                  </a:lnTo>
                  <a:arcTo wR="1194" hR="1194" stAng="10800000" swAng="-5400000"/>
                  <a:lnTo>
                    <a:pt x="20406" y="3356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文本框 18"/>
            <p:cNvSpPr/>
            <p:nvPr/>
          </p:nvSpPr>
          <p:spPr>
            <a:xfrm>
              <a:off x="1382760" y="275256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清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27"/>
            <p:cNvSpPr/>
            <p:nvPr/>
          </p:nvSpPr>
          <p:spPr>
            <a:xfrm flipV="1">
              <a:off x="1519560" y="3188880"/>
              <a:ext cx="19983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文本框 31"/>
            <p:cNvSpPr/>
            <p:nvPr/>
          </p:nvSpPr>
          <p:spPr>
            <a:xfrm>
              <a:off x="1526400" y="3321000"/>
              <a:ext cx="19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列车内外部清洗、打扫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5"/>
          <p:cNvGrpSpPr/>
          <p:nvPr/>
        </p:nvGrpSpPr>
        <p:grpSpPr>
          <a:xfrm>
            <a:off x="4518000" y="2693880"/>
            <a:ext cx="2614680" cy="3327480"/>
            <a:chOff x="4518000" y="2693880"/>
            <a:chExt cx="2614680" cy="3327480"/>
          </a:xfrm>
        </p:grpSpPr>
        <p:sp>
          <p:nvSpPr>
            <p:cNvPr id="765" name="圆角矩形 4"/>
            <p:cNvSpPr/>
            <p:nvPr/>
          </p:nvSpPr>
          <p:spPr>
            <a:xfrm>
              <a:off x="4595760" y="2693880"/>
              <a:ext cx="2536920" cy="3327480"/>
            </a:xfrm>
            <a:custGeom>
              <a:avLst/>
              <a:gdLst>
                <a:gd name="textAreaLeft" fmla="*/ 41040 w 2536920"/>
                <a:gd name="textAreaRight" fmla="*/ 2495880 w 2536920"/>
                <a:gd name="textAreaTop" fmla="*/ 41040 h 3327480"/>
                <a:gd name="textAreaBottom" fmla="*/ 3286440 h 3327480"/>
              </a:gdLst>
              <a:ahLst/>
              <a:rect l="textAreaLeft" t="textAreaTop" r="textAreaRight" b="textAreaBottom"/>
              <a:pathLst>
                <a:path w="21600" h="28330">
                  <a:moveTo>
                    <a:pt x="1194" y="0"/>
                  </a:moveTo>
                  <a:arcTo wR="1194" hR="1194" stAng="16200000" swAng="-5400000"/>
                  <a:lnTo>
                    <a:pt x="0" y="27136"/>
                  </a:lnTo>
                  <a:arcTo wR="1194" hR="1194" stAng="10800000" swAng="-5400000"/>
                  <a:lnTo>
                    <a:pt x="20406" y="2833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文本框 24"/>
            <p:cNvSpPr/>
            <p:nvPr/>
          </p:nvSpPr>
          <p:spPr>
            <a:xfrm>
              <a:off x="4518000" y="2752560"/>
              <a:ext cx="25383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接连接符 27"/>
            <p:cNvSpPr/>
            <p:nvPr/>
          </p:nvSpPr>
          <p:spPr>
            <a:xfrm flipV="1">
              <a:off x="4680360" y="3188880"/>
              <a:ext cx="236808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文本框 31"/>
            <p:cNvSpPr/>
            <p:nvPr/>
          </p:nvSpPr>
          <p:spPr>
            <a:xfrm>
              <a:off x="4688280" y="3321000"/>
              <a:ext cx="236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回库停稳后，运转员及时与检修部办理车辆交接手续，检修完毕后办理移交手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5"/>
          <p:cNvGrpSpPr/>
          <p:nvPr/>
        </p:nvGrpSpPr>
        <p:grpSpPr>
          <a:xfrm>
            <a:off x="7907400" y="2709720"/>
            <a:ext cx="2840040" cy="3327480"/>
            <a:chOff x="7907400" y="2709720"/>
            <a:chExt cx="2840040" cy="3327480"/>
          </a:xfrm>
        </p:grpSpPr>
        <p:sp>
          <p:nvSpPr>
            <p:cNvPr id="770" name="圆角矩形 4"/>
            <p:cNvSpPr/>
            <p:nvPr/>
          </p:nvSpPr>
          <p:spPr>
            <a:xfrm>
              <a:off x="7908840" y="2709720"/>
              <a:ext cx="2838600" cy="3327480"/>
            </a:xfrm>
            <a:custGeom>
              <a:avLst/>
              <a:gdLst>
                <a:gd name="textAreaLeft" fmla="*/ 45720 w 2838600"/>
                <a:gd name="textAreaRight" fmla="*/ 2792880 w 2838600"/>
                <a:gd name="textAreaTop" fmla="*/ 45720 h 3327480"/>
                <a:gd name="textAreaBottom" fmla="*/ 3281760 h 3327480"/>
              </a:gdLst>
              <a:ahLst/>
              <a:rect l="textAreaLeft" t="textAreaTop" r="textAreaRight" b="textAreaBottom"/>
              <a:pathLst>
                <a:path w="21600" h="25320">
                  <a:moveTo>
                    <a:pt x="1194" y="0"/>
                  </a:moveTo>
                  <a:arcTo wR="1194" hR="1194" stAng="16200000" swAng="-5400000"/>
                  <a:lnTo>
                    <a:pt x="0" y="24126"/>
                  </a:lnTo>
                  <a:arcTo wR="1194" hR="1194" stAng="10800000" swAng="-5400000"/>
                  <a:lnTo>
                    <a:pt x="20406" y="2532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文本框 31"/>
            <p:cNvSpPr/>
            <p:nvPr/>
          </p:nvSpPr>
          <p:spPr>
            <a:xfrm>
              <a:off x="7907400" y="275256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辆验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直接连接符 27"/>
            <p:cNvSpPr/>
            <p:nvPr/>
          </p:nvSpPr>
          <p:spPr>
            <a:xfrm flipV="1">
              <a:off x="8003160" y="3204720"/>
              <a:ext cx="264960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文本框 31"/>
            <p:cNvSpPr/>
            <p:nvPr/>
          </p:nvSpPr>
          <p:spPr>
            <a:xfrm>
              <a:off x="8012160" y="333684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再次检查、验收，确认车辆符合正线运行的要求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4" name="矩形 1"/>
          <p:cNvSpPr/>
          <p:nvPr/>
        </p:nvSpPr>
        <p:spPr>
          <a:xfrm>
            <a:off x="5398920" y="274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检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31"/>
          <p:cNvSpPr/>
          <p:nvPr/>
        </p:nvSpPr>
        <p:spPr>
          <a:xfrm>
            <a:off x="0" y="0"/>
            <a:ext cx="12192120" cy="15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"/>
          <p:cNvSpPr/>
          <p:nvPr/>
        </p:nvSpPr>
        <p:spPr>
          <a:xfrm>
            <a:off x="5160960" y="57240"/>
            <a:ext cx="18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教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5"/>
          <p:cNvSpPr/>
          <p:nvPr/>
        </p:nvSpPr>
        <p:spPr>
          <a:xfrm>
            <a:off x="6877080" y="5875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6"/>
          <p:cNvSpPr/>
          <p:nvPr/>
        </p:nvSpPr>
        <p:spPr>
          <a:xfrm>
            <a:off x="4543560" y="57780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直接连接符 7"/>
          <p:cNvSpPr/>
          <p:nvPr/>
        </p:nvSpPr>
        <p:spPr>
          <a:xfrm>
            <a:off x="4492800" y="132732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8"/>
          <p:cNvSpPr/>
          <p:nvPr/>
        </p:nvSpPr>
        <p:spPr>
          <a:xfrm>
            <a:off x="4543560" y="57780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9"/>
          <p:cNvSpPr/>
          <p:nvPr/>
        </p:nvSpPr>
        <p:spPr>
          <a:xfrm>
            <a:off x="7693200" y="57780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11"/>
          <p:cNvSpPr/>
          <p:nvPr/>
        </p:nvSpPr>
        <p:spPr>
          <a:xfrm>
            <a:off x="2206800" y="138096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1265400" y="1560600"/>
            <a:ext cx="9675720" cy="1041480"/>
            <a:chOff x="1265400" y="1560600"/>
            <a:chExt cx="9675720" cy="1041480"/>
          </a:xfrm>
        </p:grpSpPr>
        <p:sp>
          <p:nvSpPr>
            <p:cNvPr id="538" name="任意多边形 12"/>
            <p:cNvSpPr/>
            <p:nvPr/>
          </p:nvSpPr>
          <p:spPr>
            <a:xfrm>
              <a:off x="1265400" y="1847880"/>
              <a:ext cx="9675720" cy="754200"/>
            </a:xfrm>
            <a:custGeom>
              <a:avLst/>
              <a:gdLst>
                <a:gd name="textAreaLeft" fmla="*/ 0 w 9675720"/>
                <a:gd name="textAreaRight" fmla="*/ 9676080 w 967572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文本框 13"/>
            <p:cNvSpPr/>
            <p:nvPr/>
          </p:nvSpPr>
          <p:spPr>
            <a:xfrm>
              <a:off x="5967360" y="156060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文本框 14"/>
            <p:cNvSpPr/>
            <p:nvPr/>
          </p:nvSpPr>
          <p:spPr>
            <a:xfrm>
              <a:off x="1390680" y="199404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熟悉车辆段及停车场的概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1" name="文本框 21"/>
          <p:cNvSpPr/>
          <p:nvPr/>
        </p:nvSpPr>
        <p:spPr>
          <a:xfrm>
            <a:off x="1954080" y="11811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22"/>
          <p:cNvSpPr/>
          <p:nvPr/>
        </p:nvSpPr>
        <p:spPr>
          <a:xfrm flipV="1">
            <a:off x="10226520" y="1181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38"/>
          <p:cNvGrpSpPr/>
          <p:nvPr/>
        </p:nvGrpSpPr>
        <p:grpSpPr>
          <a:xfrm>
            <a:off x="1265400" y="2562120"/>
            <a:ext cx="9675720" cy="1127160"/>
            <a:chOff x="1265400" y="2562120"/>
            <a:chExt cx="9675720" cy="1127160"/>
          </a:xfrm>
        </p:grpSpPr>
        <p:sp>
          <p:nvSpPr>
            <p:cNvPr id="544" name="任意多边形 12"/>
            <p:cNvSpPr/>
            <p:nvPr/>
          </p:nvSpPr>
          <p:spPr>
            <a:xfrm>
              <a:off x="1265400" y="2935080"/>
              <a:ext cx="9675720" cy="754200"/>
            </a:xfrm>
            <a:custGeom>
              <a:avLst/>
              <a:gdLst>
                <a:gd name="textAreaLeft" fmla="*/ 0 w 9675720"/>
                <a:gd name="textAreaRight" fmla="*/ 9676080 w 967572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文本框 13"/>
            <p:cNvSpPr/>
            <p:nvPr/>
          </p:nvSpPr>
          <p:spPr>
            <a:xfrm>
              <a:off x="5981400" y="256212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文本框 14"/>
            <p:cNvSpPr/>
            <p:nvPr/>
          </p:nvSpPr>
          <p:spPr>
            <a:xfrm>
              <a:off x="1376640" y="303876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熟悉车辆运用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组合 42"/>
          <p:cNvGrpSpPr/>
          <p:nvPr/>
        </p:nvGrpSpPr>
        <p:grpSpPr>
          <a:xfrm>
            <a:off x="1251000" y="3760920"/>
            <a:ext cx="9801000" cy="1041120"/>
            <a:chOff x="1251000" y="3760920"/>
            <a:chExt cx="9801000" cy="1041120"/>
          </a:xfrm>
        </p:grpSpPr>
        <p:sp>
          <p:nvSpPr>
            <p:cNvPr id="548" name="任意多边形 12"/>
            <p:cNvSpPr/>
            <p:nvPr/>
          </p:nvSpPr>
          <p:spPr>
            <a:xfrm>
              <a:off x="1251000" y="4048200"/>
              <a:ext cx="9676080" cy="753840"/>
            </a:xfrm>
            <a:custGeom>
              <a:avLst/>
              <a:gdLst>
                <a:gd name="textAreaLeft" fmla="*/ 0 w 9676080"/>
                <a:gd name="textAreaRight" fmla="*/ 9676440 w 967608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文本框 13"/>
            <p:cNvSpPr/>
            <p:nvPr/>
          </p:nvSpPr>
          <p:spPr>
            <a:xfrm>
              <a:off x="5952960" y="376092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文本框 14"/>
            <p:cNvSpPr/>
            <p:nvPr/>
          </p:nvSpPr>
          <p:spPr>
            <a:xfrm>
              <a:off x="1627200" y="419436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掌握车辆段行车组织工作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组合 42"/>
          <p:cNvGrpSpPr/>
          <p:nvPr/>
        </p:nvGrpSpPr>
        <p:grpSpPr>
          <a:xfrm>
            <a:off x="1251000" y="4862520"/>
            <a:ext cx="9675720" cy="955800"/>
            <a:chOff x="1251000" y="4862520"/>
            <a:chExt cx="9675720" cy="955800"/>
          </a:xfrm>
        </p:grpSpPr>
        <p:sp>
          <p:nvSpPr>
            <p:cNvPr id="552" name="任意多边形 12"/>
            <p:cNvSpPr/>
            <p:nvPr/>
          </p:nvSpPr>
          <p:spPr>
            <a:xfrm>
              <a:off x="1251000" y="5064120"/>
              <a:ext cx="9675720" cy="754200"/>
            </a:xfrm>
            <a:custGeom>
              <a:avLst/>
              <a:gdLst>
                <a:gd name="textAreaLeft" fmla="*/ 0 w 9675720"/>
                <a:gd name="textAreaRight" fmla="*/ 9676080 w 967572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13"/>
            <p:cNvSpPr/>
            <p:nvPr/>
          </p:nvSpPr>
          <p:spPr>
            <a:xfrm>
              <a:off x="5938560" y="486252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文本框 14"/>
            <p:cNvSpPr/>
            <p:nvPr/>
          </p:nvSpPr>
          <p:spPr>
            <a:xfrm>
              <a:off x="1341360" y="528660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熟悉车辆段调车作业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42"/>
          <p:cNvGrpSpPr/>
          <p:nvPr/>
        </p:nvGrpSpPr>
        <p:grpSpPr>
          <a:xfrm>
            <a:off x="1251000" y="5829480"/>
            <a:ext cx="9675720" cy="955440"/>
            <a:chOff x="1251000" y="5829480"/>
            <a:chExt cx="9675720" cy="955440"/>
          </a:xfrm>
        </p:grpSpPr>
        <p:sp>
          <p:nvSpPr>
            <p:cNvPr id="556" name="任意多边形 12"/>
            <p:cNvSpPr/>
            <p:nvPr/>
          </p:nvSpPr>
          <p:spPr>
            <a:xfrm>
              <a:off x="1251000" y="6031080"/>
              <a:ext cx="9675720" cy="753840"/>
            </a:xfrm>
            <a:custGeom>
              <a:avLst/>
              <a:gdLst>
                <a:gd name="textAreaLeft" fmla="*/ 0 w 9675720"/>
                <a:gd name="textAreaRight" fmla="*/ 9676080 w 967572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文本框 13"/>
            <p:cNvSpPr/>
            <p:nvPr/>
          </p:nvSpPr>
          <p:spPr>
            <a:xfrm>
              <a:off x="5938560" y="582948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文本框 14"/>
            <p:cNvSpPr/>
            <p:nvPr/>
          </p:nvSpPr>
          <p:spPr>
            <a:xfrm>
              <a:off x="1341360" y="625356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能处理特殊情况下的调车作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11"/>
          <p:cNvSpPr/>
          <p:nvPr/>
        </p:nvSpPr>
        <p:spPr>
          <a:xfrm>
            <a:off x="1447920" y="85392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车辆段衔接站接发车工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9"/>
          <p:cNvSpPr/>
          <p:nvPr/>
        </p:nvSpPr>
        <p:spPr>
          <a:xfrm>
            <a:off x="1370160" y="278748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当车辆段的微机联锁系统与衔接车站的联锁系统工作站工作正常时，衔接站与车辆段之间采用正常情况下的接发车方式接发列车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30"/>
          <p:cNvSpPr/>
          <p:nvPr/>
        </p:nvSpPr>
        <p:spPr>
          <a:xfrm>
            <a:off x="8282160" y="278748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当车辆段微机联锁系统故障，但衔接站联锁系统工作正常时，应采用电话闭塞法组织接发车，或者按调度命令组织接发车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31"/>
          <p:cNvSpPr/>
          <p:nvPr/>
        </p:nvSpPr>
        <p:spPr>
          <a:xfrm>
            <a:off x="1370160" y="4440240"/>
            <a:ext cx="2828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当车辆段微机联锁系统工作正常，但衔接站联锁系统故障时，应采用电话闭塞法组织接发车，或者按调度命令组织接发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32"/>
          <p:cNvSpPr/>
          <p:nvPr/>
        </p:nvSpPr>
        <p:spPr>
          <a:xfrm>
            <a:off x="8294760" y="44402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当车辆段微机联锁系统和衔接站联锁系统均故障时，应采用电话闭塞法组织接发车，或者按调度命令组织接发车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直接连接符 22"/>
          <p:cNvSpPr/>
          <p:nvPr/>
        </p:nvSpPr>
        <p:spPr>
          <a:xfrm>
            <a:off x="1355760" y="1546200"/>
            <a:ext cx="913752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文本框 3"/>
          <p:cNvSpPr/>
          <p:nvPr/>
        </p:nvSpPr>
        <p:spPr>
          <a:xfrm>
            <a:off x="2021040" y="40878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车辆段调车作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96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2322360"/>
              <a:gd name="textAreaBottom" fmla="*/ 2322720 h 2322360"/>
            </a:gdLst>
            <a:ahLst/>
            <a:rect l="textAreaLeft" t="textAreaTop" r="textAreaRight" b="textAreaBottom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>
              <a:gd name="textAreaLeft" fmla="*/ 0 w 2685960"/>
              <a:gd name="textAreaRight" fmla="*/ 2686320 w 2685960"/>
              <a:gd name="textAreaTop" fmla="*/ 0 h 2685960"/>
              <a:gd name="textAreaBottom" fmla="*/ 2686320 h 2685960"/>
            </a:gdLst>
            <a:ahLst/>
            <a:rect l="textAreaLeft" t="textAreaTop" r="textAreaRight" b="textAreaBottom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组合 1"/>
          <p:cNvGrpSpPr/>
          <p:nvPr/>
        </p:nvGrpSpPr>
        <p:grpSpPr>
          <a:xfrm>
            <a:off x="6113520" y="5199120"/>
            <a:ext cx="390600" cy="117360"/>
            <a:chOff x="6113520" y="5199120"/>
            <a:chExt cx="390600" cy="117360"/>
          </a:xfrm>
        </p:grpSpPr>
        <p:sp>
          <p:nvSpPr>
            <p:cNvPr id="803" name="椭圆 11"/>
            <p:cNvSpPr/>
            <p:nvPr/>
          </p:nvSpPr>
          <p:spPr>
            <a:xfrm flipH="1">
              <a:off x="6113520" y="5199120"/>
              <a:ext cx="117360" cy="117360"/>
            </a:xfrm>
            <a:prstGeom prst="ellipse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椭圆 12"/>
            <p:cNvSpPr/>
            <p:nvPr/>
          </p:nvSpPr>
          <p:spPr>
            <a:xfrm flipH="1">
              <a:off x="6386760" y="5199120"/>
              <a:ext cx="117360" cy="117360"/>
            </a:xfrm>
            <a:prstGeom prst="ellipse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5" name="椭圆 14"/>
          <p:cNvSpPr/>
          <p:nvPr/>
        </p:nvSpPr>
        <p:spPr>
          <a:xfrm flipH="1">
            <a:off x="6635880" y="5170320"/>
            <a:ext cx="13464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椭圆 12"/>
          <p:cNvSpPr/>
          <p:nvPr/>
        </p:nvSpPr>
        <p:spPr>
          <a:xfrm flipH="1">
            <a:off x="6904800" y="5180040"/>
            <a:ext cx="13500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11"/>
          <p:cNvSpPr/>
          <p:nvPr/>
        </p:nvSpPr>
        <p:spPr>
          <a:xfrm>
            <a:off x="1447920" y="85392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调车作业的作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29"/>
          <p:cNvSpPr/>
          <p:nvPr/>
        </p:nvSpPr>
        <p:spPr>
          <a:xfrm>
            <a:off x="1370160" y="278748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按时、正确地进行调车作业，保证电动列车按运行图的规定时刻发出列车，按运行图的要求安排使用列车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30"/>
          <p:cNvSpPr/>
          <p:nvPr/>
        </p:nvSpPr>
        <p:spPr>
          <a:xfrm>
            <a:off x="8282160" y="278748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及时取、送需要检修的车辆，保证检修车辆按时到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31"/>
          <p:cNvSpPr/>
          <p:nvPr/>
        </p:nvSpPr>
        <p:spPr>
          <a:xfrm>
            <a:off x="1370160" y="44402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保证车辆段设备及调车作业运行安全和人身安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矩形 32"/>
          <p:cNvSpPr/>
          <p:nvPr/>
        </p:nvSpPr>
        <p:spPr>
          <a:xfrm>
            <a:off x="8294760" y="44402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确保其他物资运输的运行秩序正常进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22"/>
          <p:cNvSpPr/>
          <p:nvPr/>
        </p:nvSpPr>
        <p:spPr>
          <a:xfrm>
            <a:off x="1355760" y="1546200"/>
            <a:ext cx="913752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文本框 11"/>
          <p:cNvSpPr/>
          <p:nvPr/>
        </p:nvSpPr>
        <p:spPr>
          <a:xfrm>
            <a:off x="1447920" y="85392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调车工作的工作制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直接连接符 22"/>
          <p:cNvSpPr/>
          <p:nvPr/>
        </p:nvSpPr>
        <p:spPr>
          <a:xfrm>
            <a:off x="1355760" y="1546200"/>
            <a:ext cx="913752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图示 1" descr=""/>
          <p:cNvPicPr/>
          <p:nvPr/>
        </p:nvPicPr>
        <p:blipFill>
          <a:blip r:embed="rId1"/>
          <a:stretch/>
        </p:blipFill>
        <p:spPr>
          <a:xfrm>
            <a:off x="1805040" y="1938240"/>
            <a:ext cx="88264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掌握调车作业的指挥原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组合 5"/>
          <p:cNvGrpSpPr/>
          <p:nvPr/>
        </p:nvGrpSpPr>
        <p:grpSpPr>
          <a:xfrm>
            <a:off x="2227320" y="2716200"/>
            <a:ext cx="3004920" cy="3328200"/>
            <a:chOff x="2227320" y="2716200"/>
            <a:chExt cx="3004920" cy="3328200"/>
          </a:xfrm>
        </p:grpSpPr>
        <p:sp>
          <p:nvSpPr>
            <p:cNvPr id="835" name="圆角矩形 4"/>
            <p:cNvSpPr/>
            <p:nvPr/>
          </p:nvSpPr>
          <p:spPr>
            <a:xfrm>
              <a:off x="2316960" y="2716200"/>
              <a:ext cx="2915280" cy="3328200"/>
            </a:xfrm>
            <a:custGeom>
              <a:avLst/>
              <a:gdLst>
                <a:gd name="textAreaLeft" fmla="*/ 47160 w 2915280"/>
                <a:gd name="textAreaRight" fmla="*/ 2868120 w 2915280"/>
                <a:gd name="textAreaTop" fmla="*/ 47160 h 3328200"/>
                <a:gd name="textAreaBottom" fmla="*/ 3281040 h 3328200"/>
              </a:gdLst>
              <a:ahLst/>
              <a:rect l="textAreaLeft" t="textAreaTop" r="textAreaRight" b="textAreaBottom"/>
              <a:pathLst>
                <a:path w="21600" h="24659">
                  <a:moveTo>
                    <a:pt x="1194" y="0"/>
                  </a:moveTo>
                  <a:arcTo wR="1194" hR="1194" stAng="16200000" swAng="-5400000"/>
                  <a:lnTo>
                    <a:pt x="0" y="23465"/>
                  </a:lnTo>
                  <a:arcTo wR="1194" hR="1194" stAng="10800000" swAng="-5400000"/>
                  <a:lnTo>
                    <a:pt x="20406" y="24659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文本框 26"/>
            <p:cNvSpPr/>
            <p:nvPr/>
          </p:nvSpPr>
          <p:spPr>
            <a:xfrm>
              <a:off x="2227320" y="2774880"/>
              <a:ext cx="29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统一领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直接连接符 27"/>
            <p:cNvSpPr/>
            <p:nvPr/>
          </p:nvSpPr>
          <p:spPr>
            <a:xfrm flipV="1">
              <a:off x="2413800" y="3211200"/>
              <a:ext cx="272124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31"/>
            <p:cNvSpPr/>
            <p:nvPr/>
          </p:nvSpPr>
          <p:spPr>
            <a:xfrm>
              <a:off x="2422800" y="3343320"/>
              <a:ext cx="272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同一车辆段内，在同一时间只能有车辆段的车场调度员统一领导全场的调车作业。与调车区域相关联的其他作业，均按车场调度员的调度命令执行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组合 5"/>
          <p:cNvGrpSpPr/>
          <p:nvPr/>
        </p:nvGrpSpPr>
        <p:grpSpPr>
          <a:xfrm>
            <a:off x="6203880" y="2752560"/>
            <a:ext cx="3264120" cy="3327480"/>
            <a:chOff x="6203880" y="2752560"/>
            <a:chExt cx="3264120" cy="3327480"/>
          </a:xfrm>
        </p:grpSpPr>
        <p:sp>
          <p:nvSpPr>
            <p:cNvPr id="840" name="圆角矩形 4"/>
            <p:cNvSpPr/>
            <p:nvPr/>
          </p:nvSpPr>
          <p:spPr>
            <a:xfrm>
              <a:off x="6301080" y="2752560"/>
              <a:ext cx="3166920" cy="3327480"/>
            </a:xfrm>
            <a:custGeom>
              <a:avLst/>
              <a:gdLst>
                <a:gd name="textAreaLeft" fmla="*/ 51120 w 3166920"/>
                <a:gd name="textAreaRight" fmla="*/ 3115800 w 3166920"/>
                <a:gd name="textAreaTop" fmla="*/ 51120 h 3327480"/>
                <a:gd name="textAreaBottom" fmla="*/ 3276360 h 3327480"/>
              </a:gdLst>
              <a:ahLst/>
              <a:rect l="textAreaLeft" t="textAreaTop" r="textAreaRight" b="textAreaBottom"/>
              <a:pathLst>
                <a:path w="21600" h="22695">
                  <a:moveTo>
                    <a:pt x="1194" y="0"/>
                  </a:moveTo>
                  <a:arcTo wR="1194" hR="1194" stAng="16200000" swAng="-5400000"/>
                  <a:lnTo>
                    <a:pt x="0" y="21501"/>
                  </a:lnTo>
                  <a:arcTo wR="1194" hR="1194" stAng="10800000" swAng="-5400000"/>
                  <a:lnTo>
                    <a:pt x="20406" y="2269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6203880" y="2811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单一指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27"/>
            <p:cNvSpPr/>
            <p:nvPr/>
          </p:nvSpPr>
          <p:spPr>
            <a:xfrm flipV="1">
              <a:off x="6406560" y="3247560"/>
              <a:ext cx="295596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文本框 31"/>
            <p:cNvSpPr/>
            <p:nvPr/>
          </p:nvSpPr>
          <p:spPr>
            <a:xfrm>
              <a:off x="6416280" y="3379680"/>
              <a:ext cx="29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同一时间内，一台机车或一组列车的调车作业计划的执行、作业方法的拟定和布置，以及车辆的行动指挥，只能由一人负责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调车作业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5"/>
          <p:cNvGrpSpPr/>
          <p:nvPr/>
        </p:nvGrpSpPr>
        <p:grpSpPr>
          <a:xfrm>
            <a:off x="762120" y="2655720"/>
            <a:ext cx="4825800" cy="3327480"/>
            <a:chOff x="762120" y="2655720"/>
            <a:chExt cx="4825800" cy="3327480"/>
          </a:xfrm>
        </p:grpSpPr>
        <p:sp>
          <p:nvSpPr>
            <p:cNvPr id="849" name="圆角矩形 4"/>
            <p:cNvSpPr/>
            <p:nvPr/>
          </p:nvSpPr>
          <p:spPr>
            <a:xfrm>
              <a:off x="906120" y="2655720"/>
              <a:ext cx="4681800" cy="332748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文本框 26"/>
            <p:cNvSpPr/>
            <p:nvPr/>
          </p:nvSpPr>
          <p:spPr>
            <a:xfrm>
              <a:off x="762120" y="2714400"/>
              <a:ext cx="468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调车计划作业的编制及传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直接连接符 27"/>
            <p:cNvSpPr/>
            <p:nvPr/>
          </p:nvSpPr>
          <p:spPr>
            <a:xfrm flipV="1">
              <a:off x="1061640" y="3150720"/>
              <a:ext cx="437040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文本框 31"/>
            <p:cNvSpPr/>
            <p:nvPr/>
          </p:nvSpPr>
          <p:spPr>
            <a:xfrm>
              <a:off x="1076400" y="3282840"/>
              <a:ext cx="437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车计划由车场调度员根据调车作业内容编制书面，用调车作业通知单形式进行书面通知。书面计划编制完成后，电话抄送给信号刘值班员、电车组长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5"/>
          <p:cNvGrpSpPr/>
          <p:nvPr/>
        </p:nvGrpSpPr>
        <p:grpSpPr>
          <a:xfrm>
            <a:off x="6203880" y="2752560"/>
            <a:ext cx="5078520" cy="3327480"/>
            <a:chOff x="6203880" y="2752560"/>
            <a:chExt cx="5078520" cy="3327480"/>
          </a:xfrm>
        </p:grpSpPr>
        <p:sp>
          <p:nvSpPr>
            <p:cNvPr id="854" name="圆角矩形 4"/>
            <p:cNvSpPr/>
            <p:nvPr/>
          </p:nvSpPr>
          <p:spPr>
            <a:xfrm>
              <a:off x="6355440" y="2752560"/>
              <a:ext cx="4926960" cy="332748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文本框 31"/>
            <p:cNvSpPr/>
            <p:nvPr/>
          </p:nvSpPr>
          <p:spPr>
            <a:xfrm>
              <a:off x="6203880" y="2811240"/>
              <a:ext cx="49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调车作业计划的变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直接连接符 27"/>
            <p:cNvSpPr/>
            <p:nvPr/>
          </p:nvSpPr>
          <p:spPr>
            <a:xfrm flipV="1">
              <a:off x="6519240" y="3247560"/>
              <a:ext cx="4599000" cy="54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文本框 31"/>
            <p:cNvSpPr/>
            <p:nvPr/>
          </p:nvSpPr>
          <p:spPr>
            <a:xfrm>
              <a:off x="6534360" y="3379680"/>
              <a:ext cx="459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当一张调车作业单的的变更计划不超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钩时，可以采用口头方式布置，但必须向有关人员传达清楚，让其复诵，核对无误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车作业的组织及运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469800" y="2079720"/>
            <a:ext cx="5270760" cy="4363920"/>
            <a:chOff x="469800" y="2079720"/>
            <a:chExt cx="5270760" cy="4363920"/>
          </a:xfrm>
        </p:grpSpPr>
        <p:sp>
          <p:nvSpPr>
            <p:cNvPr id="863" name="圆角矩形 4"/>
            <p:cNvSpPr/>
            <p:nvPr/>
          </p:nvSpPr>
          <p:spPr>
            <a:xfrm>
              <a:off x="626760" y="2079720"/>
              <a:ext cx="511380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文本框 26"/>
            <p:cNvSpPr/>
            <p:nvPr/>
          </p:nvSpPr>
          <p:spPr>
            <a:xfrm>
              <a:off x="469800" y="2156760"/>
              <a:ext cx="511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调车作业进路确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27"/>
            <p:cNvSpPr/>
            <p:nvPr/>
          </p:nvSpPr>
          <p:spPr>
            <a:xfrm flipV="1">
              <a:off x="797040" y="2729520"/>
              <a:ext cx="477324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文本框 31"/>
            <p:cNvSpPr/>
            <p:nvPr/>
          </p:nvSpPr>
          <p:spPr>
            <a:xfrm>
              <a:off x="812880" y="2902320"/>
              <a:ext cx="4773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列车正向运行、单机运行或牵引车辆运行时，前方进路的确认由司机负责。司机在运行时要不中断瞭望，在发生异常情况时，司机要果断采取处置措施。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推进车辆运行时，前方进路的确认由最前方调车员（或调车长）负责，调车长应及时正确地与司机联系或显示信号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在调车作业中，调车作业人员必须按调车信号的显示要求进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如果车站或基地信号机故障，应由调车人员即刻通知信号值班人员，必要时应通知运转值班人员或行车值班员组织检修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5"/>
          <p:cNvGrpSpPr/>
          <p:nvPr/>
        </p:nvGrpSpPr>
        <p:grpSpPr>
          <a:xfrm>
            <a:off x="6242040" y="2079720"/>
            <a:ext cx="5270400" cy="4363920"/>
            <a:chOff x="6242040" y="2079720"/>
            <a:chExt cx="5270400" cy="4363920"/>
          </a:xfrm>
        </p:grpSpPr>
        <p:sp>
          <p:nvSpPr>
            <p:cNvPr id="868" name="圆角矩形 4"/>
            <p:cNvSpPr/>
            <p:nvPr/>
          </p:nvSpPr>
          <p:spPr>
            <a:xfrm>
              <a:off x="6399000" y="2079720"/>
              <a:ext cx="511344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文本框 17"/>
            <p:cNvSpPr/>
            <p:nvPr/>
          </p:nvSpPr>
          <p:spPr>
            <a:xfrm>
              <a:off x="6242040" y="2156760"/>
              <a:ext cx="51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调车作业进路的变更与终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8"/>
            <p:cNvSpPr/>
            <p:nvPr/>
          </p:nvSpPr>
          <p:spPr>
            <a:xfrm flipV="1">
              <a:off x="6569280" y="2729520"/>
              <a:ext cx="477288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文本框 31"/>
            <p:cNvSpPr/>
            <p:nvPr/>
          </p:nvSpPr>
          <p:spPr>
            <a:xfrm>
              <a:off x="6585120" y="2902320"/>
              <a:ext cx="4772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进路控制和信号操纵人员首先应确认列车或车辆尚未启动，然后通知调车司机与调车员后，并得到其回复；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如果列车、车辆已经开始运行，必须立即通知司机和调车长，并且确认列车或车辆已经停止运行；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如果必须使列车或车辆运行，则应确认列车或车辆已经按规定进入规定位置停车；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殊情况下的调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6" name="组合 5"/>
          <p:cNvGrpSpPr/>
          <p:nvPr/>
        </p:nvGrpSpPr>
        <p:grpSpPr>
          <a:xfrm>
            <a:off x="469800" y="2079720"/>
            <a:ext cx="5270760" cy="4363920"/>
            <a:chOff x="469800" y="2079720"/>
            <a:chExt cx="5270760" cy="4363920"/>
          </a:xfrm>
        </p:grpSpPr>
        <p:sp>
          <p:nvSpPr>
            <p:cNvPr id="877" name="圆角矩形 4"/>
            <p:cNvSpPr/>
            <p:nvPr/>
          </p:nvSpPr>
          <p:spPr>
            <a:xfrm>
              <a:off x="626760" y="2079720"/>
              <a:ext cx="511380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文本框 26"/>
            <p:cNvSpPr/>
            <p:nvPr/>
          </p:nvSpPr>
          <p:spPr>
            <a:xfrm>
              <a:off x="469800" y="2156760"/>
              <a:ext cx="511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救援调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27"/>
            <p:cNvSpPr/>
            <p:nvPr/>
          </p:nvSpPr>
          <p:spPr>
            <a:xfrm flipV="1">
              <a:off x="797040" y="2729520"/>
              <a:ext cx="477324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文本框 31"/>
            <p:cNvSpPr/>
            <p:nvPr/>
          </p:nvSpPr>
          <p:spPr>
            <a:xfrm>
              <a:off x="812880" y="2902320"/>
              <a:ext cx="477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救援列车连挂故障列车，牵引或推送故障列车在适当的车站清客，然后返回车辆段，这一过程称为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救援调车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救援列车牵引故障列车运行时，调车进路的确认由救援列车司机负责。救援列车推送故障列车时，调车进路的确认由故障列车司机负责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组合 5"/>
          <p:cNvGrpSpPr/>
          <p:nvPr/>
        </p:nvGrpSpPr>
        <p:grpSpPr>
          <a:xfrm>
            <a:off x="6242040" y="2079720"/>
            <a:ext cx="5270400" cy="4363920"/>
            <a:chOff x="6242040" y="2079720"/>
            <a:chExt cx="5270400" cy="4363920"/>
          </a:xfrm>
        </p:grpSpPr>
        <p:sp>
          <p:nvSpPr>
            <p:cNvPr id="882" name="圆角矩形 4"/>
            <p:cNvSpPr/>
            <p:nvPr/>
          </p:nvSpPr>
          <p:spPr>
            <a:xfrm>
              <a:off x="6399000" y="2079720"/>
              <a:ext cx="511344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文本框 17"/>
            <p:cNvSpPr/>
            <p:nvPr/>
          </p:nvSpPr>
          <p:spPr>
            <a:xfrm>
              <a:off x="6242040" y="2156760"/>
              <a:ext cx="51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越出站界调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18"/>
            <p:cNvSpPr/>
            <p:nvPr/>
          </p:nvSpPr>
          <p:spPr>
            <a:xfrm flipV="1">
              <a:off x="6569280" y="2729520"/>
              <a:ext cx="477288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文本框 31"/>
            <p:cNvSpPr/>
            <p:nvPr/>
          </p:nvSpPr>
          <p:spPr>
            <a:xfrm>
              <a:off x="6585120" y="2902320"/>
              <a:ext cx="477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占用区间正线进行调车称为越出站界调车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殊情况下的调车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5"/>
          <p:cNvGrpSpPr/>
          <p:nvPr/>
        </p:nvGrpSpPr>
        <p:grpSpPr>
          <a:xfrm>
            <a:off x="469800" y="2079720"/>
            <a:ext cx="5270760" cy="4363920"/>
            <a:chOff x="469800" y="2079720"/>
            <a:chExt cx="5270760" cy="4363920"/>
          </a:xfrm>
        </p:grpSpPr>
        <p:sp>
          <p:nvSpPr>
            <p:cNvPr id="891" name="圆角矩形 4"/>
            <p:cNvSpPr/>
            <p:nvPr/>
          </p:nvSpPr>
          <p:spPr>
            <a:xfrm>
              <a:off x="626760" y="2079720"/>
              <a:ext cx="511380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文本框 26"/>
            <p:cNvSpPr/>
            <p:nvPr/>
          </p:nvSpPr>
          <p:spPr>
            <a:xfrm>
              <a:off x="469800" y="2156760"/>
              <a:ext cx="511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手推调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27"/>
            <p:cNvSpPr/>
            <p:nvPr/>
          </p:nvSpPr>
          <p:spPr>
            <a:xfrm flipV="1">
              <a:off x="797040" y="2729520"/>
              <a:ext cx="477324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文本框 31"/>
            <p:cNvSpPr/>
            <p:nvPr/>
          </p:nvSpPr>
          <p:spPr>
            <a:xfrm>
              <a:off x="812880" y="2902320"/>
              <a:ext cx="477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以人力推移车辆称为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手推调车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通常在短距离移动车辆时采用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常情形下，原则上不使用手推调车，如确有必要采用手推调车，应得到车场调度员或安全主管部门批准，并有可靠的安全措施，如车辆能随时停住、无触电危险等，以确保作业安全和人身安全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5" name="组合 5"/>
          <p:cNvGrpSpPr/>
          <p:nvPr/>
        </p:nvGrpSpPr>
        <p:grpSpPr>
          <a:xfrm>
            <a:off x="6242040" y="2079720"/>
            <a:ext cx="5270400" cy="4363920"/>
            <a:chOff x="6242040" y="2079720"/>
            <a:chExt cx="5270400" cy="4363920"/>
          </a:xfrm>
        </p:grpSpPr>
        <p:sp>
          <p:nvSpPr>
            <p:cNvPr id="896" name="圆角矩形 4"/>
            <p:cNvSpPr/>
            <p:nvPr/>
          </p:nvSpPr>
          <p:spPr>
            <a:xfrm>
              <a:off x="6399000" y="2079720"/>
              <a:ext cx="5113440" cy="436392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6242040" y="2156760"/>
              <a:ext cx="51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尽头线调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18"/>
            <p:cNvSpPr/>
            <p:nvPr/>
          </p:nvSpPr>
          <p:spPr>
            <a:xfrm flipV="1">
              <a:off x="6569280" y="2729520"/>
              <a:ext cx="4772880" cy="720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文本框 31"/>
            <p:cNvSpPr/>
            <p:nvPr/>
          </p:nvSpPr>
          <p:spPr>
            <a:xfrm>
              <a:off x="6585120" y="2902320"/>
              <a:ext cx="4772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业前，调车长应通知司机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头线内停留的机车、车辆，须与车挡至少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 m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距离，并采取止轮措施。如需使用设有车钩的尽头线端头站台装卸车时，可不受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 m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距离的限制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送车时在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 m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全距离外，取车时在连挂车前均需一度停车，以不超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 km/h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速度进行作业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训任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直接连接符 22"/>
          <p:cNvSpPr/>
          <p:nvPr/>
        </p:nvSpPr>
        <p:spPr>
          <a:xfrm>
            <a:off x="1382760" y="1457280"/>
            <a:ext cx="9225000" cy="651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2"/>
          <p:cNvSpPr/>
          <p:nvPr/>
        </p:nvSpPr>
        <p:spPr>
          <a:xfrm>
            <a:off x="8481960" y="2962440"/>
            <a:ext cx="16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贴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5"/>
          <p:cNvGrpSpPr/>
          <p:nvPr/>
        </p:nvGrpSpPr>
        <p:grpSpPr>
          <a:xfrm>
            <a:off x="816120" y="2079720"/>
            <a:ext cx="10423440" cy="4363560"/>
            <a:chOff x="816120" y="2079720"/>
            <a:chExt cx="10423440" cy="4363560"/>
          </a:xfrm>
        </p:grpSpPr>
        <p:sp>
          <p:nvSpPr>
            <p:cNvPr id="905" name="圆角矩形 4"/>
            <p:cNvSpPr/>
            <p:nvPr/>
          </p:nvSpPr>
          <p:spPr>
            <a:xfrm>
              <a:off x="816120" y="2079720"/>
              <a:ext cx="10423440" cy="436356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文本框 31"/>
            <p:cNvSpPr/>
            <p:nvPr/>
          </p:nvSpPr>
          <p:spPr>
            <a:xfrm>
              <a:off x="1130400" y="2333520"/>
              <a:ext cx="97297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常情况下车辆段与衔接站之间的接发车工作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员安排：学生按车辆段和车辆段衔接站分组，安排行车调度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，车站设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，助理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，车辆段设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，助理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演练要求：按照衔接站接发车的作业标准，由学生分别担当不同的工种的工作人员，按作业标准完成接发列车训练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正常情况下车辆段接发车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员安排：学生按工种分组，每组安排行车调度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名，车辆段信号楼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名，车站行车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，助理值班员</a:t>
              </a:r>
              <a:r>
                <a: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演练要求：按照车辆段接发车的作业标准，由学生分别担任不同 工种的工作人员，按作业标准进行接发车训练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7" name="图片 1" descr=""/>
          <p:cNvPicPr/>
          <p:nvPr/>
        </p:nvPicPr>
        <p:blipFill>
          <a:blip r:embed="rId1"/>
          <a:stretch/>
        </p:blipFill>
        <p:spPr>
          <a:xfrm>
            <a:off x="-4680" y="730080"/>
            <a:ext cx="12189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3"/>
          <p:cNvSpPr/>
          <p:nvPr/>
        </p:nvSpPr>
        <p:spPr>
          <a:xfrm>
            <a:off x="3870360" y="4079880"/>
            <a:ext cx="54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车辆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6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2322360"/>
              <a:gd name="textAreaBottom" fmla="*/ 2322720 h 2322360"/>
            </a:gdLst>
            <a:ahLst/>
            <a:rect l="textAreaLeft" t="textAreaTop" r="textAreaRight" b="textAreaBottom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>
              <a:gd name="textAreaLeft" fmla="*/ 0 w 2685960"/>
              <a:gd name="textAreaRight" fmla="*/ 2686320 w 2685960"/>
              <a:gd name="textAreaTop" fmla="*/ 0 h 2685960"/>
              <a:gd name="textAreaBottom" fmla="*/ 2686320 h 2685960"/>
            </a:gdLst>
            <a:ahLst/>
            <a:rect l="textAreaLeft" t="textAreaTop" r="textAreaRight" b="textAreaBottom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6262560" y="5199120"/>
            <a:ext cx="447840" cy="146160"/>
            <a:chOff x="6262560" y="5199120"/>
            <a:chExt cx="447840" cy="146160"/>
          </a:xfrm>
        </p:grpSpPr>
        <p:sp>
          <p:nvSpPr>
            <p:cNvPr id="568" name="椭圆 11"/>
            <p:cNvSpPr/>
            <p:nvPr/>
          </p:nvSpPr>
          <p:spPr>
            <a:xfrm flipH="1">
              <a:off x="6262560" y="5199120"/>
              <a:ext cx="134640" cy="146160"/>
            </a:xfrm>
            <a:prstGeom prst="ellipse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椭圆 12"/>
            <p:cNvSpPr/>
            <p:nvPr/>
          </p:nvSpPr>
          <p:spPr>
            <a:xfrm flipH="1">
              <a:off x="6575760" y="5199120"/>
              <a:ext cx="13464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椭圆 12"/>
          <p:cNvSpPr/>
          <p:nvPr/>
        </p:nvSpPr>
        <p:spPr>
          <a:xfrm flipH="1">
            <a:off x="6841440" y="5199120"/>
            <a:ext cx="135000" cy="14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19"/>
          <p:cNvSpPr/>
          <p:nvPr/>
        </p:nvSpPr>
        <p:spPr>
          <a:xfrm>
            <a:off x="1382760" y="757080"/>
            <a:ext cx="74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车辆段的组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总体上分为三部分：咽喉部分、线路部分和车库部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直接连接符 22"/>
          <p:cNvSpPr/>
          <p:nvPr/>
        </p:nvSpPr>
        <p:spPr>
          <a:xfrm flipV="1">
            <a:off x="1382760" y="1811160"/>
            <a:ext cx="9210600" cy="129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6" descr="]LQJTQF%]R7L`VU8WJK~YU6"/>
          <p:cNvPicPr/>
          <p:nvPr/>
        </p:nvPicPr>
        <p:blipFill>
          <a:blip r:embed="rId1"/>
          <a:stretch/>
        </p:blipFill>
        <p:spPr>
          <a:xfrm>
            <a:off x="2419200" y="2001960"/>
            <a:ext cx="635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文本框 11"/>
          <p:cNvSpPr/>
          <p:nvPr/>
        </p:nvSpPr>
        <p:spPr>
          <a:xfrm>
            <a:off x="1447920" y="85392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车辆段的组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22"/>
          <p:cNvSpPr/>
          <p:nvPr/>
        </p:nvSpPr>
        <p:spPr>
          <a:xfrm>
            <a:off x="1333440" y="1539720"/>
            <a:ext cx="9137880" cy="558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组合 5"/>
          <p:cNvGrpSpPr/>
          <p:nvPr/>
        </p:nvGrpSpPr>
        <p:grpSpPr>
          <a:xfrm>
            <a:off x="841320" y="2146320"/>
            <a:ext cx="2859120" cy="4184640"/>
            <a:chOff x="841320" y="2146320"/>
            <a:chExt cx="2859120" cy="4184640"/>
          </a:xfrm>
        </p:grpSpPr>
        <p:sp>
          <p:nvSpPr>
            <p:cNvPr id="579" name="圆角矩形 4"/>
            <p:cNvSpPr/>
            <p:nvPr/>
          </p:nvSpPr>
          <p:spPr>
            <a:xfrm>
              <a:off x="926640" y="2146320"/>
              <a:ext cx="2773800" cy="4184640"/>
            </a:xfrm>
            <a:custGeom>
              <a:avLst/>
              <a:gdLst>
                <a:gd name="textAreaLeft" fmla="*/ 44640 w 2773800"/>
                <a:gd name="textAreaRight" fmla="*/ 2729160 w 277380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585">
                  <a:moveTo>
                    <a:pt x="1194" y="0"/>
                  </a:moveTo>
                  <a:arcTo wR="1194" hR="1194" stAng="16200000" swAng="-5400000"/>
                  <a:lnTo>
                    <a:pt x="0" y="31391"/>
                  </a:lnTo>
                  <a:arcTo wR="1194" hR="1194" stAng="10800000" swAng="-5400000"/>
                  <a:lnTo>
                    <a:pt x="20406" y="3258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文本框 18"/>
            <p:cNvSpPr/>
            <p:nvPr/>
          </p:nvSpPr>
          <p:spPr>
            <a:xfrm>
              <a:off x="841320" y="2308680"/>
              <a:ext cx="277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咽喉部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27"/>
            <p:cNvSpPr/>
            <p:nvPr/>
          </p:nvSpPr>
          <p:spPr>
            <a:xfrm flipV="1">
              <a:off x="1018800" y="2769120"/>
              <a:ext cx="258912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文本框 31"/>
            <p:cNvSpPr/>
            <p:nvPr/>
          </p:nvSpPr>
          <p:spPr>
            <a:xfrm>
              <a:off x="1027440" y="293508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咽喉部分是车库部分与正线连接的地段，有出入段线和众多道岔，直接影响整个线路的正常运营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组合 5"/>
          <p:cNvGrpSpPr/>
          <p:nvPr/>
        </p:nvGrpSpPr>
        <p:grpSpPr>
          <a:xfrm>
            <a:off x="4473720" y="1989000"/>
            <a:ext cx="2857320" cy="4184640"/>
            <a:chOff x="4473720" y="1989000"/>
            <a:chExt cx="2857320" cy="4184640"/>
          </a:xfrm>
        </p:grpSpPr>
        <p:sp>
          <p:nvSpPr>
            <p:cNvPr id="584" name="圆角矩形 4"/>
            <p:cNvSpPr/>
            <p:nvPr/>
          </p:nvSpPr>
          <p:spPr>
            <a:xfrm>
              <a:off x="4558680" y="1989000"/>
              <a:ext cx="2772360" cy="4184640"/>
            </a:xfrm>
            <a:custGeom>
              <a:avLst/>
              <a:gdLst>
                <a:gd name="textAreaLeft" fmla="*/ 44640 w 2772360"/>
                <a:gd name="textAreaRight" fmla="*/ 2727720 w 277236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602">
                  <a:moveTo>
                    <a:pt x="1194" y="0"/>
                  </a:moveTo>
                  <a:arcTo wR="1194" hR="1194" stAng="16200000" swAng="-5400000"/>
                  <a:lnTo>
                    <a:pt x="0" y="31408"/>
                  </a:lnTo>
                  <a:arcTo wR="1194" hR="1194" stAng="10800000" swAng="-5400000"/>
                  <a:lnTo>
                    <a:pt x="20406" y="32602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文本框 18"/>
            <p:cNvSpPr/>
            <p:nvPr/>
          </p:nvSpPr>
          <p:spPr>
            <a:xfrm>
              <a:off x="4473720" y="2151360"/>
              <a:ext cx="27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线路部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27"/>
            <p:cNvSpPr/>
            <p:nvPr/>
          </p:nvSpPr>
          <p:spPr>
            <a:xfrm flipV="1">
              <a:off x="4651200" y="2611800"/>
              <a:ext cx="258768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文本框 31"/>
            <p:cNvSpPr/>
            <p:nvPr/>
          </p:nvSpPr>
          <p:spPr>
            <a:xfrm>
              <a:off x="4659840" y="2777760"/>
              <a:ext cx="2587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线路部分包括各种不同用途的线路：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检车线、停车线、洗车线、列检线、出入库线、车体整修线、试车线、检修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8" name="组合 5"/>
          <p:cNvGrpSpPr/>
          <p:nvPr/>
        </p:nvGrpSpPr>
        <p:grpSpPr>
          <a:xfrm>
            <a:off x="7805880" y="1989000"/>
            <a:ext cx="2857320" cy="4184640"/>
            <a:chOff x="7805880" y="1989000"/>
            <a:chExt cx="2857320" cy="4184640"/>
          </a:xfrm>
        </p:grpSpPr>
        <p:sp>
          <p:nvSpPr>
            <p:cNvPr id="589" name="圆角矩形 4"/>
            <p:cNvSpPr/>
            <p:nvPr/>
          </p:nvSpPr>
          <p:spPr>
            <a:xfrm>
              <a:off x="7890840" y="1989000"/>
              <a:ext cx="2772360" cy="4184640"/>
            </a:xfrm>
            <a:custGeom>
              <a:avLst/>
              <a:gdLst>
                <a:gd name="textAreaLeft" fmla="*/ 44640 w 2772360"/>
                <a:gd name="textAreaRight" fmla="*/ 2727720 w 277236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602">
                  <a:moveTo>
                    <a:pt x="1194" y="0"/>
                  </a:moveTo>
                  <a:arcTo wR="1194" hR="1194" stAng="16200000" swAng="-5400000"/>
                  <a:lnTo>
                    <a:pt x="0" y="31408"/>
                  </a:lnTo>
                  <a:arcTo wR="1194" hR="1194" stAng="10800000" swAng="-5400000"/>
                  <a:lnTo>
                    <a:pt x="20406" y="32602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文本框 18"/>
            <p:cNvSpPr/>
            <p:nvPr/>
          </p:nvSpPr>
          <p:spPr>
            <a:xfrm>
              <a:off x="7805880" y="2151360"/>
              <a:ext cx="27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库部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直接连接符 27"/>
            <p:cNvSpPr/>
            <p:nvPr/>
          </p:nvSpPr>
          <p:spPr>
            <a:xfrm flipV="1">
              <a:off x="7983360" y="2611800"/>
              <a:ext cx="258768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文本框 31"/>
            <p:cNvSpPr/>
            <p:nvPr/>
          </p:nvSpPr>
          <p:spPr>
            <a:xfrm>
              <a:off x="7992000" y="2777760"/>
              <a:ext cx="25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车库部分有停车库、列检库、检修库、洗车库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3" name="图片 1" descr=""/>
          <p:cNvPicPr/>
          <p:nvPr/>
        </p:nvPicPr>
        <p:blipFill>
          <a:blip r:embed="rId1"/>
          <a:stretch/>
        </p:blipFill>
        <p:spPr>
          <a:xfrm>
            <a:off x="7991640" y="3843360"/>
            <a:ext cx="40557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9"/>
          <p:cNvSpPr/>
          <p:nvPr/>
        </p:nvSpPr>
        <p:spPr>
          <a:xfrm>
            <a:off x="1382760" y="757080"/>
            <a:ext cx="749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车辆段的组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22"/>
          <p:cNvSpPr/>
          <p:nvPr/>
        </p:nvSpPr>
        <p:spPr>
          <a:xfrm flipV="1">
            <a:off x="1382760" y="1431720"/>
            <a:ext cx="9210600" cy="126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VIY)AR}3W(OW}W@EV8DS%$N"/>
          <p:cNvPicPr/>
          <p:nvPr/>
        </p:nvPicPr>
        <p:blipFill>
          <a:blip r:embed="rId1"/>
          <a:stretch/>
        </p:blipFill>
        <p:spPr>
          <a:xfrm>
            <a:off x="2860560" y="1835280"/>
            <a:ext cx="2921040" cy="1774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IUSTHT(353]_9D$9~93YKPL"/>
          <p:cNvPicPr/>
          <p:nvPr/>
        </p:nvPicPr>
        <p:blipFill>
          <a:blip r:embed="rId2"/>
          <a:stretch/>
        </p:blipFill>
        <p:spPr>
          <a:xfrm>
            <a:off x="6777000" y="1811160"/>
            <a:ext cx="2959200" cy="1775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%P6X[F7BQFX](6MVGLB[`{5"/>
          <p:cNvPicPr/>
          <p:nvPr/>
        </p:nvPicPr>
        <p:blipFill>
          <a:blip r:embed="rId3"/>
          <a:stretch/>
        </p:blipFill>
        <p:spPr>
          <a:xfrm>
            <a:off x="1805040" y="4335480"/>
            <a:ext cx="2914560" cy="1846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0P(K(EW7)85J]D}]OR2K0WX"/>
          <p:cNvPicPr/>
          <p:nvPr/>
        </p:nvPicPr>
        <p:blipFill>
          <a:blip r:embed="rId4"/>
          <a:stretch/>
        </p:blipFill>
        <p:spPr>
          <a:xfrm>
            <a:off x="6597720" y="4056120"/>
            <a:ext cx="29811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19"/>
          <p:cNvSpPr/>
          <p:nvPr/>
        </p:nvSpPr>
        <p:spPr>
          <a:xfrm>
            <a:off x="1382760" y="757080"/>
            <a:ext cx="749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车辆段的组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22"/>
          <p:cNvSpPr/>
          <p:nvPr/>
        </p:nvSpPr>
        <p:spPr>
          <a:xfrm flipV="1">
            <a:off x="1382760" y="1431720"/>
            <a:ext cx="9210600" cy="126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6" descr="8ZN[)ZN6E}6972ZSQ@4{K9F"/>
          <p:cNvPicPr/>
          <p:nvPr/>
        </p:nvPicPr>
        <p:blipFill>
          <a:blip r:embed="rId1"/>
          <a:stretch/>
        </p:blipFill>
        <p:spPr>
          <a:xfrm>
            <a:off x="1876320" y="1835280"/>
            <a:ext cx="3252960" cy="2261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Z[V)3W1_D8UB{VS16}YAO]B"/>
          <p:cNvPicPr/>
          <p:nvPr/>
        </p:nvPicPr>
        <p:blipFill>
          <a:blip r:embed="rId2"/>
          <a:stretch/>
        </p:blipFill>
        <p:spPr>
          <a:xfrm>
            <a:off x="6546960" y="1919160"/>
            <a:ext cx="3663720" cy="2094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47F)J2{67]}KI{BHHT%W{Y0"/>
          <p:cNvPicPr/>
          <p:nvPr/>
        </p:nvPicPr>
        <p:blipFill>
          <a:blip r:embed="rId3"/>
          <a:stretch/>
        </p:blipFill>
        <p:spPr>
          <a:xfrm>
            <a:off x="1184400" y="4759200"/>
            <a:ext cx="2468520" cy="1646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)25{V([WN9H_K8]GK7T]SO"/>
          <p:cNvPicPr/>
          <p:nvPr/>
        </p:nvPicPr>
        <p:blipFill>
          <a:blip r:embed="rId4"/>
          <a:stretch/>
        </p:blipFill>
        <p:spPr>
          <a:xfrm>
            <a:off x="5411880" y="3900600"/>
            <a:ext cx="34653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19"/>
          <p:cNvSpPr/>
          <p:nvPr/>
        </p:nvSpPr>
        <p:spPr>
          <a:xfrm>
            <a:off x="1382760" y="757080"/>
            <a:ext cx="749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车辆段的工作范围及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22"/>
          <p:cNvSpPr/>
          <p:nvPr/>
        </p:nvSpPr>
        <p:spPr>
          <a:xfrm flipV="1">
            <a:off x="1284120" y="1473120"/>
            <a:ext cx="9210960" cy="129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圆角矩形 4"/>
          <p:cNvSpPr/>
          <p:nvPr/>
        </p:nvSpPr>
        <p:spPr>
          <a:xfrm>
            <a:off x="1284120" y="2031840"/>
            <a:ext cx="9528480" cy="3426120"/>
          </a:xfrm>
          <a:prstGeom prst="roundRect">
            <a:avLst>
              <a:gd name="adj" fmla="val 5528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常维护：收车后对车辆按养护规定进行日常检查保养，对车辆内外部清洗打扫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列检：对各主要部件进行外观检查，对危及行车安全的故障及时进行重点修理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检：对车辆外观和主要部件技术状态进行检查，对危及行车安全的故障进行全面修理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修：预防性地对各大部件技术状态进行仔细检查，对车上仪器和仪表进行校验，对发现的故障进行针对性修理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修：检查和修理大部件，对车辆各部件进行解体题和全面检查、修理、实验、校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修：全面恢复性修理，对车辆全面解体、检查、修理、整形、实验、校验、调试、油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19"/>
          <p:cNvSpPr/>
          <p:nvPr/>
        </p:nvSpPr>
        <p:spPr>
          <a:xfrm>
            <a:off x="1382760" y="7570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车辆段检修设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22"/>
          <p:cNvSpPr/>
          <p:nvPr/>
        </p:nvSpPr>
        <p:spPr>
          <a:xfrm flipV="1">
            <a:off x="1284120" y="1473120"/>
            <a:ext cx="9210960" cy="1296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5" name="组合 5"/>
          <p:cNvGrpSpPr/>
          <p:nvPr/>
        </p:nvGrpSpPr>
        <p:grpSpPr>
          <a:xfrm>
            <a:off x="841320" y="2146320"/>
            <a:ext cx="2859120" cy="4184640"/>
            <a:chOff x="841320" y="2146320"/>
            <a:chExt cx="2859120" cy="4184640"/>
          </a:xfrm>
        </p:grpSpPr>
        <p:sp>
          <p:nvSpPr>
            <p:cNvPr id="616" name="圆角矩形 4"/>
            <p:cNvSpPr/>
            <p:nvPr/>
          </p:nvSpPr>
          <p:spPr>
            <a:xfrm>
              <a:off x="926640" y="2146320"/>
              <a:ext cx="2773800" cy="4184640"/>
            </a:xfrm>
            <a:custGeom>
              <a:avLst/>
              <a:gdLst>
                <a:gd name="textAreaLeft" fmla="*/ 44640 w 2773800"/>
                <a:gd name="textAreaRight" fmla="*/ 2729160 w 2773800"/>
                <a:gd name="textAreaTop" fmla="*/ 44640 h 4184640"/>
                <a:gd name="textAreaBottom" fmla="*/ 4140000 h 4184640"/>
              </a:gdLst>
              <a:ahLst/>
              <a:rect l="textAreaLeft" t="textAreaTop" r="textAreaRight" b="textAreaBottom"/>
              <a:pathLst>
                <a:path w="21600" h="32585">
                  <a:moveTo>
                    <a:pt x="1194" y="0"/>
                  </a:moveTo>
                  <a:arcTo wR="1194" hR="1194" stAng="16200000" swAng="-5400000"/>
                  <a:lnTo>
                    <a:pt x="0" y="31391"/>
                  </a:lnTo>
                  <a:arcTo wR="1194" hR="1194" stAng="10800000" swAng="-5400000"/>
                  <a:lnTo>
                    <a:pt x="20406" y="3258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文本框 18"/>
            <p:cNvSpPr/>
            <p:nvPr/>
          </p:nvSpPr>
          <p:spPr>
            <a:xfrm>
              <a:off x="841320" y="2308680"/>
              <a:ext cx="277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运输设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接连接符 27"/>
            <p:cNvSpPr/>
            <p:nvPr/>
          </p:nvSpPr>
          <p:spPr>
            <a:xfrm flipV="1">
              <a:off x="1018800" y="2769120"/>
              <a:ext cx="2589120" cy="684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文本框 31"/>
            <p:cNvSpPr/>
            <p:nvPr/>
          </p:nvSpPr>
          <p:spPr>
            <a:xfrm>
              <a:off x="1027440" y="2935080"/>
              <a:ext cx="258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包括轨道、平地两用电动牵引车、移车台、轨道车、转轨设备等，其中轨道车用于地铁线路施工维修运输和调车时的牵引作业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0" name="Picture 2" descr="]S]@E7OKJS]QHOHONNHO]}O"/>
          <p:cNvPicPr/>
          <p:nvPr/>
        </p:nvPicPr>
        <p:blipFill>
          <a:blip r:embed="rId1"/>
          <a:stretch/>
        </p:blipFill>
        <p:spPr>
          <a:xfrm>
            <a:off x="4521240" y="2146320"/>
            <a:ext cx="3882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哎呀小小草</dc:creator>
  <dc:description/>
  <cp:keywords/>
  <dc:language>en-US</dc:language>
  <cp:lastModifiedBy>李荣娜</cp:lastModifiedBy>
  <dcterms:modified xsi:type="dcterms:W3CDTF">2016-11-11T02:33:27Z</dcterms:modified>
  <cp:revision>124</cp:revision>
  <dc:subject/>
  <dc:title>PowerPoint 演示文稿</dc:title>
</cp:coreProperties>
</file>